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91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move the slide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굴림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32B9C-3524-4B41-8F8C-085DA79E7E3C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D3C65-051C-42D2-B154-1F7E5AB16FA0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1FE9-45DC-477B-A4C4-FFC81C246741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40F4C-91AD-4288-90C6-BD72E0CF66AF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0985C-3500-4FD7-B7E3-ED24104359A6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1BF79-FA52-412F-82A6-DBC1A696B91C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36CF-4895-4085-9EE3-3074A6CDF5AB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44802-93D9-4938-882C-99F411309211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FC08-D4AA-47C2-A984-11A53E8A54A7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15D9-1499-4AAF-AF21-8E97945CFF56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A802-EC8A-4102-8F84-CB3948264E40}" type="slidenum">
              <a:rPr b="0" lang="ko-K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AB34-F590-4C15-872D-30F4C3643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F3D7-476B-4BD1-AB7B-64DBFF763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23B5-1DD7-4C0C-A05F-8958FE3FC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FC13-2665-485D-B2FC-0828808CB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7417-9E2C-402F-BA53-57204E86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9A6B2-97BE-43ED-B255-2464D8896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28C9-5B2D-4C8F-9B68-03C3BF5A5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BCFE7-BC9F-4681-AFEE-4E462691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E4CF3-D79B-4C91-A03F-EA06F6E9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E1B3E-6493-4A3D-B80F-F84F92A39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9B48-7FD1-4329-95B4-15C5164E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FA5A-8180-41C6-A575-31F7F352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5ADD7-74A6-4B46-B881-2EAAF2F1D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9F001-3981-4FE7-8F7D-CAF77C0EC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AFDDF-3A8E-4CE2-8CC9-C9C8AAA49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BC6B-83C9-4FF7-A225-12CBA7D97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01841-592E-4385-B7B3-746A05F54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DC43-054C-46D3-9AA5-B509F20A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153A-2146-4290-BBBE-E1A8157D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5B6-2F80-436E-8785-F784AB2E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468360" y="475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E914-5EC1-4D93-AA16-86BABA19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43FB-3C9C-4284-8E1C-567632E3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9271-CE37-4CBA-8DE2-F30E56269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D39C-251E-4E76-B79F-645440598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99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8c8e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cc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fafcfd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6dbdc5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22BA4-5007-4577-80FD-763C175258E7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Group 2"/>
          <p:cNvGrpSpPr/>
          <p:nvPr/>
        </p:nvGrpSpPr>
        <p:grpSpPr>
          <a:xfrm>
            <a:off x="-360" y="-360"/>
            <a:ext cx="9149040" cy="6858360"/>
            <a:chOff x="-360" y="-360"/>
            <a:chExt cx="9149040" cy="6858360"/>
          </a:xfrm>
        </p:grpSpPr>
        <p:sp>
          <p:nvSpPr>
            <p:cNvPr id="67" name="Rectangle 3"/>
            <p:cNvSpPr/>
            <p:nvPr/>
          </p:nvSpPr>
          <p:spPr>
            <a:xfrm>
              <a:off x="0" y="0"/>
              <a:ext cx="792000" cy="309600"/>
            </a:xfrm>
            <a:prstGeom prst="rect">
              <a:avLst/>
            </a:prstGeom>
            <a:solidFill>
              <a:srgbClr val="d26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" name="Rectangle 4"/>
            <p:cNvSpPr/>
            <p:nvPr/>
          </p:nvSpPr>
          <p:spPr>
            <a:xfrm>
              <a:off x="2666880" y="6703920"/>
              <a:ext cx="6477120" cy="15408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d26f5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8763120" y="1981080"/>
              <a:ext cx="380880" cy="4267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6164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0" name="Rectangle 6"/>
            <p:cNvSpPr/>
            <p:nvPr/>
          </p:nvSpPr>
          <p:spPr>
            <a:xfrm>
              <a:off x="0" y="5257800"/>
              <a:ext cx="385920" cy="1522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1" name="Rectangle 7"/>
            <p:cNvSpPr/>
            <p:nvPr/>
          </p:nvSpPr>
          <p:spPr>
            <a:xfrm>
              <a:off x="0" y="5424480"/>
              <a:ext cx="385920" cy="143352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2" name="Rectangle 8"/>
            <p:cNvSpPr/>
            <p:nvPr/>
          </p:nvSpPr>
          <p:spPr>
            <a:xfrm>
              <a:off x="8763120" y="0"/>
              <a:ext cx="380880" cy="19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3" name="Rectangle 9"/>
            <p:cNvSpPr/>
            <p:nvPr/>
          </p:nvSpPr>
          <p:spPr>
            <a:xfrm>
              <a:off x="5715000" y="0"/>
              <a:ext cx="3048120" cy="304920"/>
            </a:xfrm>
            <a:prstGeom prst="rect">
              <a:avLst/>
            </a:prstGeom>
            <a:gradFill rotWithShape="0">
              <a:gsLst>
                <a:gs pos="0">
                  <a:srgbClr val="c4e4e7"/>
                </a:gs>
                <a:gs pos="100000">
                  <a:srgbClr val="51afb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4" name="Rectangle 10"/>
            <p:cNvSpPr/>
            <p:nvPr/>
          </p:nvSpPr>
          <p:spPr>
            <a:xfrm>
              <a:off x="423720" y="298440"/>
              <a:ext cx="385920" cy="7491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5" name="Rectangle 11"/>
            <p:cNvSpPr/>
            <p:nvPr/>
          </p:nvSpPr>
          <p:spPr>
            <a:xfrm>
              <a:off x="0" y="1054080"/>
              <a:ext cx="385920" cy="4186080"/>
            </a:xfrm>
            <a:prstGeom prst="rect">
              <a:avLst/>
            </a:prstGeom>
            <a:gradFill rotWithShape="0">
              <a:gsLst>
                <a:gs pos="0">
                  <a:srgbClr val="51afb9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6" name="Rectangle 12"/>
            <p:cNvSpPr/>
            <p:nvPr/>
          </p:nvSpPr>
          <p:spPr>
            <a:xfrm>
              <a:off x="6480" y="298440"/>
              <a:ext cx="385560" cy="74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Rectangle 13"/>
            <p:cNvSpPr/>
            <p:nvPr/>
          </p:nvSpPr>
          <p:spPr>
            <a:xfrm>
              <a:off x="785880" y="0"/>
              <a:ext cx="4929120" cy="29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Line 14"/>
            <p:cNvSpPr/>
            <p:nvPr/>
          </p:nvSpPr>
          <p:spPr>
            <a:xfrm flipV="1">
              <a:off x="403200" y="304560"/>
              <a:ext cx="0" cy="65530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Line 15"/>
            <p:cNvSpPr/>
            <p:nvPr/>
          </p:nvSpPr>
          <p:spPr>
            <a:xfrm>
              <a:off x="403200" y="6705720"/>
              <a:ext cx="87454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Line 16"/>
            <p:cNvSpPr/>
            <p:nvPr/>
          </p:nvSpPr>
          <p:spPr>
            <a:xfrm flipV="1">
              <a:off x="8763120" y="-360"/>
              <a:ext cx="0" cy="67057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Line 17"/>
            <p:cNvSpPr/>
            <p:nvPr/>
          </p:nvSpPr>
          <p:spPr>
            <a:xfrm>
              <a:off x="0" y="317520"/>
              <a:ext cx="91440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Line 18"/>
            <p:cNvSpPr/>
            <p:nvPr/>
          </p:nvSpPr>
          <p:spPr>
            <a:xfrm flipH="1">
              <a:off x="5716080" y="442800"/>
              <a:ext cx="3429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Line 19"/>
            <p:cNvSpPr/>
            <p:nvPr/>
          </p:nvSpPr>
          <p:spPr>
            <a:xfrm flipV="1">
              <a:off x="5715000" y="0"/>
              <a:ext cx="0" cy="457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Line 20"/>
            <p:cNvSpPr/>
            <p:nvPr/>
          </p:nvSpPr>
          <p:spPr>
            <a:xfrm>
              <a:off x="8763120" y="1981080"/>
              <a:ext cx="380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Line 21"/>
            <p:cNvSpPr/>
            <p:nvPr/>
          </p:nvSpPr>
          <p:spPr>
            <a:xfrm>
              <a:off x="804960" y="0"/>
              <a:ext cx="0" cy="10666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Line 22"/>
            <p:cNvSpPr/>
            <p:nvPr/>
          </p:nvSpPr>
          <p:spPr>
            <a:xfrm flipH="1">
              <a:off x="-360" y="1047600"/>
              <a:ext cx="78588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Line 23"/>
            <p:cNvSpPr/>
            <p:nvPr/>
          </p:nvSpPr>
          <p:spPr>
            <a:xfrm flipV="1">
              <a:off x="2655720" y="6237360"/>
              <a:ext cx="0" cy="61920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Line 24"/>
            <p:cNvSpPr/>
            <p:nvPr/>
          </p:nvSpPr>
          <p:spPr>
            <a:xfrm>
              <a:off x="2641680" y="6242040"/>
              <a:ext cx="6502320" cy="468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Line 25"/>
            <p:cNvSpPr/>
            <p:nvPr/>
          </p:nvSpPr>
          <p:spPr>
            <a:xfrm flipH="1">
              <a:off x="0" y="525780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Line 26"/>
            <p:cNvSpPr/>
            <p:nvPr/>
          </p:nvSpPr>
          <p:spPr>
            <a:xfrm flipH="1">
              <a:off x="0" y="5410080"/>
              <a:ext cx="4176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66"/>
                </a:solidFill>
                <a:latin typeface="굴림"/>
              </a:rPr>
              <a:t>Click to edit the title text format</a:t>
            </a:r>
            <a:endParaRPr b="0" lang="en-US" sz="4100" spc="-1" strike="noStrike">
              <a:solidFill>
                <a:srgbClr val="000066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51"/>
              </a:spcBef>
              <a:buClr>
                <a:srgbClr val="6164d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51"/>
              </a:spcBef>
              <a:buClr>
                <a:srgbClr val="d26f5e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51"/>
              </a:spcBef>
              <a:buClr>
                <a:srgbClr val="51afb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D5F07-FD40-4A8A-9437-DC46AC9F397B}" type="slidenum">
              <a:rPr b="0" lang="ko-KR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A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성과평가 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양적평가</a:t>
            </a: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6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가족중심실천의 정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1/5.0=82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청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존중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선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편입견 배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융통적인 스케줄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쉬운용어의 선택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4), 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희망부여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기결정권의 명확화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9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사업에 대한 의견수렴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6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0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동일한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 추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어려울 때 다시 찾을 것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실무자에게 연락 용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4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 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3" name=""/>
          <p:cNvSpPr/>
          <p:nvPr/>
        </p:nvSpPr>
        <p:spPr>
          <a:xfrm>
            <a:off x="111600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변화영역에 대한 인식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5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7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건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.3/10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연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  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dd2b07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직무능력감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0/5.0=80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상사나 동료와의 업무협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도움요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제해결에 대한 확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타인 동료의 인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노력에 의한 조직변화 기대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4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업무수행에 대한 확신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7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3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실무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"/>
          <p:cNvSpPr/>
          <p:nvPr/>
        </p:nvSpPr>
        <p:spPr>
          <a:xfrm>
            <a:off x="1116000" y="1844640"/>
            <a:ext cx="6985080" cy="50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실천원리에 대한 인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2/5.0=</a:t>
            </a:r>
            <a:r>
              <a:rPr b="0" lang="en-US" sz="2400" spc="-1" strike="noStrike">
                <a:solidFill>
                  <a:srgbClr val="dd2b07"/>
                </a:solidFill>
                <a:latin typeface="Arial"/>
                <a:ea typeface="HY견고딕"/>
              </a:rPr>
              <a:t>6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d2b07"/>
                </a:solidFill>
                <a:latin typeface="Arial"/>
                <a:ea typeface="HY견명조"/>
              </a:rPr>
              <a:t>다른 측정지표에 비해 현저히 낮은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성공경험에 초점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이용자 입장 우선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와의 협력 강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3)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전문가의 주도적 개입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1.8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직면기술의 사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1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문제분류와 유형화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4),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이용자 저항에대한 인식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0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201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08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218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24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226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28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234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1"/>
          <p:cNvSpPr/>
          <p:nvPr/>
        </p:nvSpPr>
        <p:spPr>
          <a:xfrm>
            <a:off x="1857240" y="2000160"/>
            <a:ext cx="6696360" cy="32292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아동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가족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와 연계자원 대상으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서비스 이용 전후의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경험을 질적 연구방법을 통해 비교함으로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의 성과평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0" y="33336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성과 평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41" name="Group 16"/>
          <p:cNvGrpSpPr/>
          <p:nvPr/>
        </p:nvGrpSpPr>
        <p:grpSpPr>
          <a:xfrm>
            <a:off x="0" y="1571760"/>
            <a:ext cx="2303280" cy="936360"/>
            <a:chOff x="0" y="1571760"/>
            <a:chExt cx="2303280" cy="936360"/>
          </a:xfrm>
        </p:grpSpPr>
        <p:sp>
          <p:nvSpPr>
            <p:cNvPr id="242" name="AutoShape 17"/>
            <p:cNvSpPr/>
            <p:nvPr/>
          </p:nvSpPr>
          <p:spPr>
            <a:xfrm>
              <a:off x="0" y="1571760"/>
              <a:ext cx="2303280" cy="936360"/>
            </a:xfrm>
            <a:custGeom>
              <a:avLst/>
              <a:gdLst>
                <a:gd name="textAreaLeft" fmla="*/ 0 w 2303280"/>
                <a:gd name="textAreaRight" fmla="*/ 2303640 w 2303280"/>
                <a:gd name="textAreaTop" fmla="*/ 0 h 936360"/>
                <a:gd name="textAreaBottom" fmla="*/ 936720 h 93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3" name="Text Box 18"/>
            <p:cNvSpPr/>
            <p:nvPr/>
          </p:nvSpPr>
          <p:spPr>
            <a:xfrm>
              <a:off x="510840" y="1821600"/>
              <a:ext cx="168120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44" name="Text Box 23"/>
          <p:cNvSpPr/>
          <p:nvPr/>
        </p:nvSpPr>
        <p:spPr>
          <a:xfrm>
            <a:off x="214200" y="17859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목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5" name="Text Box 24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연구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7" name="Text Box 29"/>
          <p:cNvSpPr/>
          <p:nvPr/>
        </p:nvSpPr>
        <p:spPr>
          <a:xfrm>
            <a:off x="250920" y="429264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Group 7"/>
          <p:cNvGrpSpPr/>
          <p:nvPr/>
        </p:nvGrpSpPr>
        <p:grpSpPr>
          <a:xfrm>
            <a:off x="2071800" y="1143000"/>
            <a:ext cx="6643440" cy="2428920"/>
            <a:chOff x="2071800" y="1143000"/>
            <a:chExt cx="6643440" cy="2428920"/>
          </a:xfrm>
        </p:grpSpPr>
        <p:sp>
          <p:nvSpPr>
            <p:cNvPr id="249" name="Rectangle 8"/>
            <p:cNvSpPr/>
            <p:nvPr/>
          </p:nvSpPr>
          <p:spPr>
            <a:xfrm>
              <a:off x="2071800" y="1143000"/>
              <a:ext cx="6643440" cy="107172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ctr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서비스수혜자인 아동과 가족은 서비스 이용 전과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이용 후에 어떤 어려움과 변화를 경험하는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0" name="Rectangle 9"/>
            <p:cNvSpPr/>
            <p:nvPr/>
          </p:nvSpPr>
          <p:spPr>
            <a:xfrm>
              <a:off x="2071800" y="2357640"/>
              <a:ext cx="6643440" cy="12142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아동과 가족이 인식한 변화를 가능하게 한 서비스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내용과 개입방법은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51" name="Group 11"/>
          <p:cNvGrpSpPr/>
          <p:nvPr/>
        </p:nvGrpSpPr>
        <p:grpSpPr>
          <a:xfrm>
            <a:off x="285840" y="642960"/>
            <a:ext cx="2302920" cy="936720"/>
            <a:chOff x="285840" y="642960"/>
            <a:chExt cx="2302920" cy="936720"/>
          </a:xfrm>
        </p:grpSpPr>
        <p:sp>
          <p:nvSpPr>
            <p:cNvPr id="252" name="AutoShape 12"/>
            <p:cNvSpPr/>
            <p:nvPr/>
          </p:nvSpPr>
          <p:spPr>
            <a:xfrm>
              <a:off x="285840" y="642960"/>
              <a:ext cx="2302920" cy="936720"/>
            </a:xfrm>
            <a:custGeom>
              <a:avLst/>
              <a:gdLst>
                <a:gd name="textAreaLeft" fmla="*/ 0 w 2302920"/>
                <a:gd name="textAreaRight" fmla="*/ 2303280 w 2302920"/>
                <a:gd name="textAreaTop" fmla="*/ 0 h 936720"/>
                <a:gd name="textAreaBottom" fmla="*/ 937080 h 93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3" name="Text Box 13"/>
            <p:cNvSpPr/>
            <p:nvPr/>
          </p:nvSpPr>
          <p:spPr>
            <a:xfrm>
              <a:off x="796680" y="892800"/>
              <a:ext cx="168084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54" name="Text Box 10"/>
          <p:cNvSpPr/>
          <p:nvPr/>
        </p:nvSpPr>
        <p:spPr>
          <a:xfrm>
            <a:off x="611280" y="393372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500040" y="85716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56" name="Group 15"/>
          <p:cNvGrpSpPr/>
          <p:nvPr/>
        </p:nvGrpSpPr>
        <p:grpSpPr>
          <a:xfrm>
            <a:off x="2071800" y="3713040"/>
            <a:ext cx="6643440" cy="2382120"/>
            <a:chOff x="2071800" y="3713040"/>
            <a:chExt cx="6643440" cy="2382120"/>
          </a:xfrm>
        </p:grpSpPr>
        <p:sp>
          <p:nvSpPr>
            <p:cNvPr id="257" name="Rectangle 16"/>
            <p:cNvSpPr/>
            <p:nvPr/>
          </p:nvSpPr>
          <p:spPr>
            <a:xfrm>
              <a:off x="2071800" y="371304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아동과 가족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역사회의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변화는 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2071800" y="4999680"/>
              <a:ext cx="6643440" cy="10954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4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실무자와 연계자원이 인식한 변화에 도움이 된 요인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무엇인가</a:t>
              </a: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?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transition>
    <p:push dir="r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Group 2"/>
          <p:cNvGrpSpPr/>
          <p:nvPr/>
        </p:nvGrpSpPr>
        <p:grpSpPr>
          <a:xfrm>
            <a:off x="2050920" y="620640"/>
            <a:ext cx="6716880" cy="2239560"/>
            <a:chOff x="2050920" y="620640"/>
            <a:chExt cx="6716880" cy="2239560"/>
          </a:xfrm>
        </p:grpSpPr>
        <p:sp>
          <p:nvSpPr>
            <p:cNvPr id="260" name="Rectangle 3"/>
            <p:cNvSpPr/>
            <p:nvPr/>
          </p:nvSpPr>
          <p:spPr>
            <a:xfrm>
              <a:off x="2050920" y="620640"/>
              <a:ext cx="6696360" cy="1093680"/>
            </a:xfrm>
            <a:prstGeom prst="rect">
              <a:avLst/>
            </a:prstGeom>
            <a:gradFill rotWithShape="0">
              <a:gsLst>
                <a:gs pos="0">
                  <a:srgbClr val="fff7d7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1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아동과 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최소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월 이상 서비스 경험한 종결사례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buClr>
                  <a:srgbClr val="000000"/>
                </a:buClr>
                <a:buFont typeface="굴림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2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실무자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개소시부터 근무해 사업 진행에 대해 잘 앎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24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명의 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센터와 활발하게 자원연계를 위해 협력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1" name="Rectangle 4"/>
            <p:cNvSpPr/>
            <p:nvPr/>
          </p:nvSpPr>
          <p:spPr>
            <a:xfrm>
              <a:off x="2071800" y="1856880"/>
              <a:ext cx="6696000" cy="100332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2. </a:t>
              </a:r>
              <a:r>
                <a:rPr b="0" lang="ko-KR" sz="20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 사업을 충분히 알고 있고 의사소통이 가능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   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 </a:t>
              </a:r>
              <a:r>
                <a:rPr b="0" lang="ko-KR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희망센터의 실무자가 센터 별로 추천 후 자발적 동의</a:t>
              </a:r>
              <a:r>
                <a:rPr b="0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2" name="Group 8"/>
          <p:cNvGrpSpPr/>
          <p:nvPr/>
        </p:nvGrpSpPr>
        <p:grpSpPr>
          <a:xfrm>
            <a:off x="2050920" y="3213000"/>
            <a:ext cx="6696000" cy="2930400"/>
            <a:chOff x="2050920" y="3213000"/>
            <a:chExt cx="6696000" cy="2930400"/>
          </a:xfrm>
        </p:grpSpPr>
        <p:grpSp>
          <p:nvGrpSpPr>
            <p:cNvPr id="263" name="Group 9"/>
            <p:cNvGrpSpPr/>
            <p:nvPr/>
          </p:nvGrpSpPr>
          <p:grpSpPr>
            <a:xfrm>
              <a:off x="2050920" y="3213000"/>
              <a:ext cx="6696000" cy="2109600"/>
              <a:chOff x="2050920" y="3213000"/>
              <a:chExt cx="6696000" cy="2109600"/>
            </a:xfrm>
          </p:grpSpPr>
          <p:sp>
            <p:nvSpPr>
              <p:cNvPr id="264" name="Rectangle 10"/>
              <p:cNvSpPr/>
              <p:nvPr/>
            </p:nvSpPr>
            <p:spPr>
              <a:xfrm>
                <a:off x="2050920" y="3213000"/>
                <a:ext cx="6696000" cy="5731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buClr>
                    <a:srgbClr val="000000"/>
                  </a:buClr>
                  <a:buFont typeface="굴림"/>
                  <a:buAutoNum type="arabicPeriod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반구조화된 심층면접 조사표 구성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by </a:t>
                </a:r>
                <a:r>
                  <a:rPr b="0" lang="ko-KR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집단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굴림"/>
                    <a:ea typeface="휴먼모음T"/>
                  </a:rPr>
                  <a:t>)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265" name="Rectangle 11"/>
              <p:cNvSpPr/>
              <p:nvPr/>
            </p:nvSpPr>
            <p:spPr>
              <a:xfrm>
                <a:off x="2050920" y="4000680"/>
                <a:ext cx="6696000" cy="1321920"/>
              </a:xfrm>
              <a:prstGeom prst="rect">
                <a:avLst/>
              </a:prstGeom>
              <a:gradFill rotWithShape="0">
                <a:gsLst>
                  <a:gs pos="0">
                    <a:srgbClr val="fff7d7"/>
                  </a:gs>
                  <a:gs pos="100000">
                    <a:srgbClr val="ffcc00">
                      <a:alpha val="90196"/>
                    </a:srgbClr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2. </a:t>
                </a:r>
                <a:r>
                  <a:rPr b="1" lang="ko-KR" sz="24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포커스 집단 심층면담 실시 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(2007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년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7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월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: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부산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광주남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,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신림센터와 나눔과 열림 연구소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)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명의 연구자가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1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개의 연구대상만을 인터뷰 함으로써 일관성 있는 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  <a:p>
                <a:pPr marL="343080" indent="-343080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    </a:t>
                </a:r>
                <a:r>
                  <a:rPr b="0" lang="ko-KR" sz="1800" spc="-1" strike="noStrike">
                    <a:solidFill>
                      <a:srgbClr val="000000"/>
                    </a:solidFill>
                    <a:latin typeface="굴림"/>
                    <a:ea typeface="휴먼모음T"/>
                  </a:rPr>
                  <a:t>면담이 가능</a:t>
                </a: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266" name="Rectangle 12"/>
            <p:cNvSpPr/>
            <p:nvPr/>
          </p:nvSpPr>
          <p:spPr>
            <a:xfrm>
              <a:off x="2050920" y="5474160"/>
              <a:ext cx="6696000" cy="669240"/>
            </a:xfrm>
            <a:prstGeom prst="rect">
              <a:avLst/>
            </a:prstGeom>
            <a:gradFill rotWithShape="0">
              <a:gsLst>
                <a:gs pos="0">
                  <a:srgbClr val="fff9df"/>
                </a:gs>
                <a:gs pos="100000">
                  <a:srgbClr val="ffcc00">
                    <a:alpha val="90196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3. </a:t>
              </a:r>
              <a:r>
                <a:rPr b="1" lang="ko-KR" sz="24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지속적 비교분석</a:t>
              </a:r>
              <a:r>
                <a:rPr b="1" lang="en-US" sz="1800" spc="-1" strike="noStrike">
                  <a:solidFill>
                    <a:srgbClr val="000000"/>
                  </a:solidFill>
                  <a:latin typeface="굴림"/>
                  <a:ea typeface="휴먼모음T"/>
                </a:rPr>
                <a:t>(constant comparative analysis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267" name="Group 16"/>
          <p:cNvGrpSpPr/>
          <p:nvPr/>
        </p:nvGrpSpPr>
        <p:grpSpPr>
          <a:xfrm>
            <a:off x="0" y="500040"/>
            <a:ext cx="2071800" cy="914400"/>
            <a:chOff x="0" y="500040"/>
            <a:chExt cx="2071800" cy="914400"/>
          </a:xfrm>
        </p:grpSpPr>
        <p:sp>
          <p:nvSpPr>
            <p:cNvPr id="268" name="AutoShape 17"/>
            <p:cNvSpPr/>
            <p:nvPr/>
          </p:nvSpPr>
          <p:spPr>
            <a:xfrm>
              <a:off x="0" y="5000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9" name="Text Box 18"/>
            <p:cNvSpPr/>
            <p:nvPr/>
          </p:nvSpPr>
          <p:spPr>
            <a:xfrm>
              <a:off x="459360" y="744120"/>
              <a:ext cx="151200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0" name="Text Box 20"/>
          <p:cNvSpPr/>
          <p:nvPr/>
        </p:nvSpPr>
        <p:spPr>
          <a:xfrm>
            <a:off x="214200" y="71424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대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71" name="Group 22"/>
          <p:cNvGrpSpPr/>
          <p:nvPr/>
        </p:nvGrpSpPr>
        <p:grpSpPr>
          <a:xfrm>
            <a:off x="0" y="3214800"/>
            <a:ext cx="2071800" cy="863640"/>
            <a:chOff x="0" y="3214800"/>
            <a:chExt cx="2071800" cy="863640"/>
          </a:xfrm>
        </p:grpSpPr>
        <p:sp>
          <p:nvSpPr>
            <p:cNvPr id="272" name="AutoShape 23"/>
            <p:cNvSpPr/>
            <p:nvPr/>
          </p:nvSpPr>
          <p:spPr>
            <a:xfrm>
              <a:off x="0" y="32148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3" name="Text Box 24"/>
            <p:cNvSpPr/>
            <p:nvPr/>
          </p:nvSpPr>
          <p:spPr>
            <a:xfrm>
              <a:off x="459360" y="3445200"/>
              <a:ext cx="1512000" cy="3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4" name="Text Box 21"/>
          <p:cNvSpPr/>
          <p:nvPr/>
        </p:nvSpPr>
        <p:spPr>
          <a:xfrm>
            <a:off x="142920" y="342900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6" name="Group 2"/>
          <p:cNvGrpSpPr/>
          <p:nvPr/>
        </p:nvGrpSpPr>
        <p:grpSpPr>
          <a:xfrm>
            <a:off x="1692360" y="2427840"/>
            <a:ext cx="7021440" cy="2855160"/>
            <a:chOff x="1692360" y="2427840"/>
            <a:chExt cx="7021440" cy="2855160"/>
          </a:xfrm>
        </p:grpSpPr>
        <p:sp>
          <p:nvSpPr>
            <p:cNvPr id="277" name="AutoShape 3"/>
            <p:cNvSpPr/>
            <p:nvPr/>
          </p:nvSpPr>
          <p:spPr>
            <a:xfrm>
              <a:off x="1692360" y="24454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8" name="Text Box 4"/>
            <p:cNvSpPr/>
            <p:nvPr/>
          </p:nvSpPr>
          <p:spPr>
            <a:xfrm>
              <a:off x="2786400" y="242784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경제적 어려움으로 지원이 필요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폭력과 가족 성원간의 갈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절한 보호와 양육을 받지 못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습지도를 받지 못해 학습능력이     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떨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79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143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145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63120" y="231444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315520" y="213372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존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50920" y="5013360"/>
            <a:ext cx="8568720" cy="936720"/>
            <a:chOff x="250920" y="5013360"/>
            <a:chExt cx="8568720" cy="936720"/>
          </a:xfrm>
        </p:grpSpPr>
        <p:sp>
          <p:nvSpPr>
            <p:cNvPr id="151" name=""/>
            <p:cNvSpPr/>
            <p:nvPr/>
          </p:nvSpPr>
          <p:spPr>
            <a:xfrm>
              <a:off x="250920" y="501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437400" y="5099400"/>
              <a:ext cx="1651680" cy="766080"/>
              <a:chOff x="437400" y="5099400"/>
              <a:chExt cx="1651680" cy="766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37400" y="509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40720" y="514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63120" y="533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56" name=""/>
            <p:cNvSpPr/>
            <p:nvPr/>
          </p:nvSpPr>
          <p:spPr>
            <a:xfrm>
              <a:off x="2315520" y="515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를 통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250920" y="3573360"/>
            <a:ext cx="8568720" cy="936720"/>
            <a:chOff x="250920" y="3573360"/>
            <a:chExt cx="8568720" cy="936720"/>
          </a:xfrm>
        </p:grpSpPr>
        <p:sp>
          <p:nvSpPr>
            <p:cNvPr id="158" name=""/>
            <p:cNvSpPr/>
            <p:nvPr/>
          </p:nvSpPr>
          <p:spPr>
            <a:xfrm>
              <a:off x="250920" y="357336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37400" y="3659400"/>
              <a:ext cx="1651680" cy="766080"/>
              <a:chOff x="437400" y="3659400"/>
              <a:chExt cx="1651680" cy="766080"/>
            </a:xfrm>
          </p:grpSpPr>
          <p:sp>
            <p:nvSpPr>
              <p:cNvPr id="160" name=""/>
              <p:cNvSpPr/>
              <p:nvPr/>
            </p:nvSpPr>
            <p:spPr>
              <a:xfrm>
                <a:off x="437400" y="365940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40720" y="370872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663120" y="3898800"/>
                <a:ext cx="1159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과업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163" name=""/>
            <p:cNvSpPr/>
            <p:nvPr/>
          </p:nvSpPr>
          <p:spPr>
            <a:xfrm>
              <a:off x="2315520" y="3718080"/>
              <a:ext cx="6297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신규이용자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아동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+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가족</a:t>
              </a:r>
              <a:r>
                <a:rPr b="0" lang="en-US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r>
                <a:rPr b="0" lang="ko-KR" sz="24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에 대한 성과평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95280" y="19886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집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매에 넘어가가지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맨 날 밤에 술을 먹고 와서 접시를 막 유리 접시를 던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싸우고 그래서 아빠랑 떨어지게 됐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은 시간을 잘 활용 못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러니까 공부나 독서 같은 거 잘 안하고 놀거나 컴퓨터만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3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84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86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Group 2"/>
          <p:cNvGrpSpPr/>
          <p:nvPr/>
        </p:nvGrpSpPr>
        <p:grpSpPr>
          <a:xfrm>
            <a:off x="1692360" y="2802240"/>
            <a:ext cx="7021440" cy="2837520"/>
            <a:chOff x="1692360" y="2802240"/>
            <a:chExt cx="7021440" cy="2837520"/>
          </a:xfrm>
        </p:grpSpPr>
        <p:sp>
          <p:nvSpPr>
            <p:cNvPr id="288" name="AutoShape 3"/>
            <p:cNvSpPr/>
            <p:nvPr/>
          </p:nvSpPr>
          <p:spPr>
            <a:xfrm>
              <a:off x="1692360" y="280224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2df"/>
                </a:gs>
                <a:gs pos="100000">
                  <a:srgbClr val="ff9900">
                    <a:alpha val="97254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Text Box 4"/>
            <p:cNvSpPr/>
            <p:nvPr/>
          </p:nvSpPr>
          <p:spPr>
            <a:xfrm>
              <a:off x="3565440" y="2934360"/>
              <a:ext cx="302436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정형편이 나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성격이 밝아짐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교 성적 올라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친구관계 원만해짐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0" name="AutoShape 5"/>
          <p:cNvSpPr/>
          <p:nvPr/>
        </p:nvSpPr>
        <p:spPr>
          <a:xfrm>
            <a:off x="468360" y="17733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dbfe7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1" name="Rectangle 8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d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여기에 온 다음부터 형편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기분이 좋아져서 장사를 잘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격도 친구한테 따뜻하게 대해주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소심하지 않고 활발해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가 교육에 신경을 많이 쓰시게 되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공부도 더 열심히 하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성적상담이랑 친구들 상담이랑 해주시면요 속이 개운해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세상이 달라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맨날 봐왔던 것들이 아름답게 보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세상이 달라 보이니까 동생한테 잘 해줘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94" name="Group 6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295" name="AutoShape 7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Text Box 8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297" name="Text Box 9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8" name="Rectangle 10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Group 2"/>
          <p:cNvGrpSpPr/>
          <p:nvPr/>
        </p:nvGrpSpPr>
        <p:grpSpPr>
          <a:xfrm>
            <a:off x="1714680" y="2484000"/>
            <a:ext cx="7021440" cy="2837520"/>
            <a:chOff x="1714680" y="2484000"/>
            <a:chExt cx="7021440" cy="2837520"/>
          </a:xfrm>
        </p:grpSpPr>
        <p:sp>
          <p:nvSpPr>
            <p:cNvPr id="301" name="AutoShape 3"/>
            <p:cNvSpPr/>
            <p:nvPr/>
          </p:nvSpPr>
          <p:spPr>
            <a:xfrm>
              <a:off x="1714680" y="24840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Text Box 4"/>
            <p:cNvSpPr/>
            <p:nvPr/>
          </p:nvSpPr>
          <p:spPr>
            <a:xfrm>
              <a:off x="2857680" y="2642760"/>
              <a:ext cx="52736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을 통한 다양한 교육과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물질적인 지원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 캠프  등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신의 강점을 발견해 주고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인 지지와 칭찬을 해주는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실무자와의 관계 형성 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03" name="AutoShape 5"/>
          <p:cNvSpPr/>
          <p:nvPr/>
        </p:nvSpPr>
        <p:spPr>
          <a:xfrm>
            <a:off x="428760" y="17146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4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용품도 지원해 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만들기랑 한자랑 하구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놀러도 가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야채 같은 것도 주셔서 좋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이 다 같이 가족캠프에 간거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서 아빠랑 나랑 친해지게 해주고 아빠도 거기 가서 남자 어르신들이랑 친해지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언니들이나 동생들 내 또래 아이들과 친해질 수 있어서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이요 맨날 나쁜 말 안하고 칭찬만 해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칭찬을 많이 해주니까 더 착해지고 싶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더 많이 받고 싶으니까 자꾸 착해지려고 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서로 싸우는 것보다 자신이 하고 싶은 의견을 말하면서 내가 이렇게 하고 싶다 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또 저도 내가 이렇게 하고 싶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렇게 이야기해서 서로 마음을 맞게 할 수 있도록 도와 주시는거요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0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2"/>
          <p:cNvGrpSpPr/>
          <p:nvPr/>
        </p:nvGrpSpPr>
        <p:grpSpPr>
          <a:xfrm>
            <a:off x="1643040" y="2305080"/>
            <a:ext cx="7021440" cy="2837520"/>
            <a:chOff x="1643040" y="2305080"/>
            <a:chExt cx="7021440" cy="2837520"/>
          </a:xfrm>
        </p:grpSpPr>
        <p:sp>
          <p:nvSpPr>
            <p:cNvPr id="314" name="AutoShape 3"/>
            <p:cNvSpPr/>
            <p:nvPr/>
          </p:nvSpPr>
          <p:spPr>
            <a:xfrm>
              <a:off x="1643040" y="2305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5" name="Text Box 4"/>
            <p:cNvSpPr/>
            <p:nvPr/>
          </p:nvSpPr>
          <p:spPr>
            <a:xfrm>
              <a:off x="2786040" y="2428200"/>
              <a:ext cx="5273640" cy="214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직장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 등 경제적인 어려움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 등</a:t>
              </a: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교육문제로 고통 받음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한부모 가정과 조손 세대가 많아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 양육 스트레스가 많음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6" name="AutoShape 5"/>
          <p:cNvSpPr/>
          <p:nvPr/>
        </p:nvSpPr>
        <p:spPr>
          <a:xfrm>
            <a:off x="428760" y="178596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경험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어려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3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같은 경우는 일을 하지 못하니깐 학원도 못 보내는 입장이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갈 곳도 없는 입장이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외손주를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3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년을 길렀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 아이들을 데려다 주고 가고 없으니깐 내가 키워야 하는데 학교를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교육에 대한 힘겨움이 있었죠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 없이 자라다 보니 안 좋은 소리 들으면 사건사고들이 많아서 이렇게 되고 몸도 안 좋고 하니 스트레스가 애들한테도 가고 하니깐 애들한테도 화를 많이 내고 심했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21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2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3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4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5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Group 2"/>
          <p:cNvGrpSpPr/>
          <p:nvPr/>
        </p:nvGrpSpPr>
        <p:grpSpPr>
          <a:xfrm>
            <a:off x="1763640" y="2285280"/>
            <a:ext cx="7021440" cy="3165480"/>
            <a:chOff x="1763640" y="2285280"/>
            <a:chExt cx="7021440" cy="3165480"/>
          </a:xfrm>
        </p:grpSpPr>
        <p:sp>
          <p:nvSpPr>
            <p:cNvPr id="327" name="AutoShape 3"/>
            <p:cNvSpPr/>
            <p:nvPr/>
          </p:nvSpPr>
          <p:spPr>
            <a:xfrm>
              <a:off x="1763640" y="245376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8" name="Text Box 4"/>
            <p:cNvSpPr/>
            <p:nvPr/>
          </p:nvSpPr>
          <p:spPr>
            <a:xfrm>
              <a:off x="2714760" y="2285280"/>
              <a:ext cx="5487840" cy="31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관계가 좋아지고 양육태도가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긍정적으로 바뀜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친구와 잘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어울리게 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학습능력이 향상됨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희망이 생김      </a:t>
              </a:r>
              <a:endParaRPr b="0" lang="en-US" sz="24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29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이 인식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0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1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둘이 많이 싸우고 그랬는데 센터 다니면서 공부도 좀 앉아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재미를 붙여서 학교 갔다 와서 둘이 먼저 센터 가서 저녁까지 먹고 오니깐 제가 믿음이 생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쁜 아이들 안 만날 것 같고 해서 제가 노점상이라도 하고 그래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글도 못 읽고 했었는데 한글도 잘 읽고 자신감도 생기고 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조금만 해도 울고 했는데 많이 활발해지고 똑똑해 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너무 좋아졌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제가 아이를 많이 닦달했었는데 내가 여유를 찾으면서 아이와 나도 여유가 많이 생긴 것이 센터를 다니면서 선생님들이 반겨주시고 그런 대접을 받으면서 아이가 자기 스스로가 소중한 존재라는 것을 느낄 수 있는 계기가 된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3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3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Group 2"/>
          <p:cNvGrpSpPr/>
          <p:nvPr/>
        </p:nvGrpSpPr>
        <p:grpSpPr>
          <a:xfrm>
            <a:off x="1763640" y="2143080"/>
            <a:ext cx="7021440" cy="3021840"/>
            <a:chOff x="1763640" y="2143080"/>
            <a:chExt cx="7021440" cy="3021840"/>
          </a:xfrm>
        </p:grpSpPr>
        <p:sp>
          <p:nvSpPr>
            <p:cNvPr id="340" name="AutoShape 3"/>
            <p:cNvSpPr/>
            <p:nvPr/>
          </p:nvSpPr>
          <p:spPr>
            <a:xfrm>
              <a:off x="1763640" y="23274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1" name="Text Box 4"/>
            <p:cNvSpPr/>
            <p:nvPr/>
          </p:nvSpPr>
          <p:spPr>
            <a:xfrm>
              <a:off x="2786040" y="2143080"/>
              <a:ext cx="5546880" cy="29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공부방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학원연계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주거환경개선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가족캠프 등 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다양한  물질적 지원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나의 감정과 사정을 고려하는 실무</a:t>
              </a: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를  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통해 마음의 문을 열고 살아갈 힘을 얻음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강점을 지지하는 실무자를 통해 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22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자녀에 대한 시각이 긍정적으로 바뀜</a:t>
              </a:r>
              <a:endParaRPr b="0" lang="en-US" sz="22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42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도움이 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개입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가족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5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5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9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6" name=""/>
          <p:cNvSpPr/>
          <p:nvPr/>
        </p:nvSpPr>
        <p:spPr>
          <a:xfrm>
            <a:off x="1187280" y="1844640"/>
            <a:ext cx="6985080" cy="47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5%), 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 취약층 아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83%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 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.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구원중 장애유무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20%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경제적으로 힘들어서 못 갔는데 학원에서 공부하다 보니깐 많이 좋아졌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정적인 부분도 가족들이 놀러 가거나 문화생활을 아이들에게 해 줄 수 있어서 좋았죠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를 이용하면서 아무래도 심적으로 아직은 세상이 살만한 곳이구나 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래서 힘이 되는 구나 하는 생각이 들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엄마들의 사정을 고려하고 생각해주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내 감정까지 생각해 주는 따뜻한 배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우리 아이는 성적이 안 좋아서 제가 바라보는 것과 선생님이 바라보시는 것과는 다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도 잘 받아주시고 좋은 점을 찾아주시고 내가 모르는 부분을 찾아주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ㅇㅇ 한테 이런 면이 있었구나 싶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남들 앞에서는 말을 잘 못하는데 한번 해보려고 하는 것이 선생님이 많이 도움이 되었구나 라는 생각이 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47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48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9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0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1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2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6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1" dur="5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54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5" name="Text Box 4"/>
            <p:cNvSpPr/>
            <p:nvPr/>
          </p:nvSpPr>
          <p:spPr>
            <a:xfrm>
              <a:off x="2916360" y="2205000"/>
              <a:ext cx="5273640" cy="226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4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적이 오르고</a:t>
              </a: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,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생활이 안정되면서 가족관계가 원만해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던 사람에서 다른 이웃을 돕는 사람으로 변하고 비공식 자원망을 형성함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내 기관 네트워크의 구심적 역할을 함으로써 통합적 서비스 제공이 가능해짐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56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7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8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동이 보호가 되고 안정이 되니까 보호자들의 일이 하나씩 풀어지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간의 관계에 있어서도 서로 힘이 드니까 짜증내거나 화를 내거나 싸우는 일이 있었는데 그것들이 줄어들게 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도움을 받았지만 나도 나눌 수 있는 사람이 되었다는 것과 지역 안에서 별거는 아니지만 내가 관심을 가져주면 이 집도 잘 살 수 있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도 잘 살 수 있고 같이 좋은 동네가 될 수 있다라는 생각이 조금 조금씩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학교랑 복지관이랑 동사무소랑 사례회의가 잘못되면 굉장히 형식적이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자기들 말만하고 끝나게 되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…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장 큰 변화는 사례관리팀이 생겨서 아이나 가정을 총체적으로 봐주고 조정할 수 있는 그런 부분이 생긴 거예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61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62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3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64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3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Group 2"/>
          <p:cNvGrpSpPr/>
          <p:nvPr/>
        </p:nvGrpSpPr>
        <p:grpSpPr>
          <a:xfrm>
            <a:off x="1763640" y="2152800"/>
            <a:ext cx="7021440" cy="2837520"/>
            <a:chOff x="1763640" y="2152800"/>
            <a:chExt cx="7021440" cy="2837520"/>
          </a:xfrm>
        </p:grpSpPr>
        <p:sp>
          <p:nvSpPr>
            <p:cNvPr id="368" name="AutoShape 3"/>
            <p:cNvSpPr/>
            <p:nvPr/>
          </p:nvSpPr>
          <p:spPr>
            <a:xfrm>
              <a:off x="1763640" y="215280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9" name="Text Box 4"/>
            <p:cNvSpPr/>
            <p:nvPr/>
          </p:nvSpPr>
          <p:spPr>
            <a:xfrm>
              <a:off x="2714760" y="2213640"/>
              <a:ext cx="5786280" cy="273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관점 접근을 하자 내담자들 끼리도 서로의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강점을 찾아주고 실제 생활에서 활용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욕구에 기초한 서비스를 제공하자 내담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적극적으로 참여하기 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개입의 초점을 두고 부모가 자녀에게 관심을 갖게 지지하자 가족관계에 변화가 나타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0" name="AutoShape 5"/>
          <p:cNvSpPr/>
          <p:nvPr/>
        </p:nvSpPr>
        <p:spPr>
          <a:xfrm>
            <a:off x="428760" y="1643040"/>
            <a:ext cx="2158920" cy="165744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2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"/>
                            </p:stCondLst>
                            <p:childTnLst>
                              <p:par>
                                <p:cTn id="26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능하면 그분들이 갖고 있는 강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긍정적인 부분들을 볼 수 있도록 저희도 애쓰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니 스스로도 그런 부분들을 보려고 서로서로 이거 잘해 뭐 잘해 그렇게 하다 보니까 더 강화가 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그 아이들이나 가족들의 욕구가 무엇인지에 따라서 거기에 맞춰서 접근을 하다 보니까 본인들이 가장 취약한 부분에서 뭐가 해보자 하는 게 같이 동의 되었을 때 거기서 나타나는 시너지 효과가 굉장히 크다는 생각이 들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하고 같이 저 혼자 이거 해보세요 했던 것이 아니라 아이 상황에 대해 한번 쭉 같이 얘기를 해보고 하는 과정에서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어머님께서 그런 경험을 하면서 직접 학원체크를 같은 거나 학교 관리도 하고 밑에 동생을 저희가 지원을 안 하더라고 어머님이 직접 아이 누나했던 경험 그대로 하면서 방법을 만들어가고 자신감을 가지게 되는 것 같아요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75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76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7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78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1" name="Group 2"/>
          <p:cNvGrpSpPr/>
          <p:nvPr/>
        </p:nvGrpSpPr>
        <p:grpSpPr>
          <a:xfrm>
            <a:off x="1763640" y="2080080"/>
            <a:ext cx="7021440" cy="2837520"/>
            <a:chOff x="1763640" y="2080080"/>
            <a:chExt cx="7021440" cy="2837520"/>
          </a:xfrm>
        </p:grpSpPr>
        <p:sp>
          <p:nvSpPr>
            <p:cNvPr id="382" name="AutoShape 3"/>
            <p:cNvSpPr/>
            <p:nvPr/>
          </p:nvSpPr>
          <p:spPr>
            <a:xfrm>
              <a:off x="1763640" y="208008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3" name="Text Box 4"/>
            <p:cNvSpPr/>
            <p:nvPr/>
          </p:nvSpPr>
          <p:spPr>
            <a:xfrm>
              <a:off x="2916360" y="2205000"/>
              <a:ext cx="5273640" cy="23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의 성격이 밝아지고 성적이 향상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부모로서 역할을 하기 시작하고 가정이 안정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도움을 받았던 내담자들이 다른 이웃들을 돕기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시작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센터가 구심점이 되어 지역자원들이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협력함으로써 지역아동의 삶의 질이 향상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84" name="AutoShape 5"/>
          <p:cNvSpPr/>
          <p:nvPr/>
        </p:nvSpPr>
        <p:spPr>
          <a:xfrm>
            <a:off x="468360" y="191628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아동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가족</a:t>
            </a:r>
            <a:r>
              <a:rPr b="1" lang="en-US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지역사회의 변화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5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6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7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500"/>
                            </p:stCondLst>
                            <p:childTnLst>
                              <p:par>
                                <p:cTn id="29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93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428760" y="16426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들이 여기서 공부하고 학교 가서도 공부하는데 와서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선생님 어제 공부한 것이 오늘 학교에서 시험에 나와서 잘 봤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’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자신 있게 말하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버지께서 양육을 열심히 하려고 하지만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나는 열심히 하고 싶어도 안되기 때문에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는 생각으로 대인기피증이 있으셨지만 지금은 열심히 하려고 하세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이 키우는 게 더 수월해졌고 그래서 일에 좀더 열중하실 수 있으셨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는 몰라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도와주세요 이런 게 시발점이었는데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저 했어요 이렇게 자랑하다가 내가 받았으니깐 남들한테 줄줄 아는 마음까지 생기게 되고 창작활동 하나도 남한테 도와주고 뭔가 해 줄 수 있는 마음까지 생기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센터가 아동들의 질을 향상시켰다라고 말하고 싶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.(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중략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)..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이 아동들에게 관심을 가지게 되었다는 거죠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지역사회가 함께 만들어야겠다고 느꼈고 지역 전체가 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‘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제는 아동사업에 힘을 쓰자 우리가 돕겠다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’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라고 말씀 하셨거든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390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1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3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3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Group 2"/>
          <p:cNvGrpSpPr/>
          <p:nvPr/>
        </p:nvGrpSpPr>
        <p:grpSpPr>
          <a:xfrm>
            <a:off x="1785960" y="2335320"/>
            <a:ext cx="7021440" cy="2873160"/>
            <a:chOff x="1785960" y="2335320"/>
            <a:chExt cx="7021440" cy="2873160"/>
          </a:xfrm>
        </p:grpSpPr>
        <p:sp>
          <p:nvSpPr>
            <p:cNvPr id="396" name="AutoShape 3"/>
            <p:cNvSpPr/>
            <p:nvPr/>
          </p:nvSpPr>
          <p:spPr>
            <a:xfrm>
              <a:off x="1785960" y="2335320"/>
              <a:ext cx="7021440" cy="2837520"/>
            </a:xfrm>
            <a:custGeom>
              <a:avLst/>
              <a:gdLst>
                <a:gd name="textAreaLeft" fmla="*/ 0 w 7021440"/>
                <a:gd name="textAreaRight" fmla="*/ 7021800 w 7021440"/>
                <a:gd name="textAreaTop" fmla="*/ 0 h 2837520"/>
                <a:gd name="textAreaBottom" fmla="*/ 2837880 h 283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ebce"/>
                </a:gs>
                <a:gs pos="100000">
                  <a:srgbClr val="ff9900">
                    <a:alpha val="74117"/>
                  </a:srgbClr>
                </a:gs>
              </a:gsLst>
              <a:lin ang="5400000"/>
            </a:gra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96969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7" name="Text Box 4"/>
            <p:cNvSpPr/>
            <p:nvPr/>
          </p:nvSpPr>
          <p:spPr>
            <a:xfrm>
              <a:off x="2571840" y="2428560"/>
              <a:ext cx="5689440" cy="277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buClr>
                  <a:srgbClr val="000000"/>
                </a:buClr>
                <a:buFont typeface="굴림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굴림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아동에게 초점을 두는 동시에 가족 족 중심의 서비스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를 제공한 것이 가족전체의 변화를 가능하게 함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내담자 스스로 문제를 해결 할 수 있는 기회를       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제공함으로써 내담자의 역량이 강화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buClr>
                  <a:srgbClr val="000000"/>
                </a:buClr>
                <a:buFont typeface="휴먼옛체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지역사회 연계자원을 존중하고 필요한 정보를 먼저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  </a:t>
              </a:r>
              <a:r>
                <a:rPr b="1" lang="ko-KR" sz="1800" spc="-1" strike="noStrike">
                  <a:solidFill>
                    <a:srgbClr val="000000"/>
                  </a:solidFill>
                  <a:latin typeface="휴먼옛체"/>
                  <a:ea typeface="휴먼옛체"/>
                </a:rPr>
                <a:t>개방한 것이 진정한 협력을 가능하게 함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98" name="AutoShape 5"/>
          <p:cNvSpPr/>
          <p:nvPr/>
        </p:nvSpPr>
        <p:spPr>
          <a:xfrm>
            <a:off x="285840" y="1571760"/>
            <a:ext cx="2158920" cy="1657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aed7f0"/>
              </a:gs>
              <a:gs pos="100000">
                <a:srgbClr val="0081d0">
                  <a:alpha val="8000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다양한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옛체"/>
                <a:ea typeface="휴먼옛체"/>
              </a:rPr>
              <a:t>변화 요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0" y="333360"/>
            <a:ext cx="9144000" cy="115092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 포커스 그룹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0" name="Rectangle 7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1" name="Rectangle 8"/>
          <p:cNvSpPr/>
          <p:nvPr/>
        </p:nvSpPr>
        <p:spPr>
          <a:xfrm>
            <a:off x="2308680" y="207000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부모하고 같이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가족하고 같이 갔다는 것이 굉장히 의미가 있더라구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다른 때 같으면 원래 아이들만 즐겁게 해주고 그러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이제 부모랑 같이 이렇게 공유하고 있었던 것이 그게 되게 좋았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아빠가 포기할 수도 있고 그런데 그 옆에서 아빠를 격려하고 하면서 아빠가 역할을 할 수 있게 그렇게 지원을 하는 것 같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“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이런 운영일지 같은 것이나 저희가 필요하고 그 아이가 어떤 정도로 진행되고 있는지 그런 궁금한 게 있으면 사실 내부적인 것이기 때문에 오픈 하지 않는 경우가 많잖아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 </a:t>
            </a:r>
            <a:r>
              <a:rPr b="1" lang="ko-KR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근데 그것들도 아주 수월하게 오픈 해주시고 그러니까 그런 부분에 있어서 많이 신뢰성을 갖고 있어요</a:t>
            </a:r>
            <a:r>
              <a:rPr b="1" lang="en-US" sz="2000" spc="-1" strike="noStrike">
                <a:solidFill>
                  <a:srgbClr val="000000"/>
                </a:solidFill>
                <a:latin typeface="휴먼편지체"/>
                <a:ea typeface="휴먼편지체"/>
              </a:rPr>
              <a:t>.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03" name="Group 3"/>
          <p:cNvGrpSpPr/>
          <p:nvPr/>
        </p:nvGrpSpPr>
        <p:grpSpPr>
          <a:xfrm>
            <a:off x="250920" y="404640"/>
            <a:ext cx="2736360" cy="1079640"/>
            <a:chOff x="250920" y="404640"/>
            <a:chExt cx="2736360" cy="1079640"/>
          </a:xfrm>
        </p:grpSpPr>
        <p:sp>
          <p:nvSpPr>
            <p:cNvPr id="404" name="AutoShape 4"/>
            <p:cNvSpPr/>
            <p:nvPr/>
          </p:nvSpPr>
          <p:spPr>
            <a:xfrm>
              <a:off x="250920" y="404640"/>
              <a:ext cx="2736360" cy="1079640"/>
            </a:xfrm>
            <a:custGeom>
              <a:avLst/>
              <a:gdLst>
                <a:gd name="textAreaLeft" fmla="*/ 0 w 2736360"/>
                <a:gd name="textAreaRight" fmla="*/ 2736720 w 2736360"/>
                <a:gd name="textAreaTop" fmla="*/ 0 h 1079640"/>
                <a:gd name="textAreaBottom" fmla="*/ 108000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5" name="Text Box 5"/>
            <p:cNvSpPr/>
            <p:nvPr/>
          </p:nvSpPr>
          <p:spPr>
            <a:xfrm>
              <a:off x="857880" y="692640"/>
              <a:ext cx="199728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06" name="Text Box 6"/>
          <p:cNvSpPr/>
          <p:nvPr/>
        </p:nvSpPr>
        <p:spPr>
          <a:xfrm>
            <a:off x="684360" y="54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모음T"/>
                <a:ea typeface="휴먼모음T"/>
              </a:rPr>
              <a:t>축어록 내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7" name="Rectangle 7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8" name="Rectangle 8"/>
          <p:cNvSpPr/>
          <p:nvPr/>
        </p:nvSpPr>
        <p:spPr>
          <a:xfrm>
            <a:off x="4451760" y="32464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4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4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9" name="Group 129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410" name="Group 126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411" name="Group 5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412" name="Oval 6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3" name="Oval 7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9193e9"/>
                    </a:gs>
                    <a:gs pos="100000">
                      <a:srgbClr val="6164d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4" name="Oval 8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5" name="Oval 9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2f316c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16" name="Oval 10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d2e67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17" name="Rectangle 11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18" name="Group 128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419" name="Group 13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420" name="Oval 14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d26f5e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1" name="Oval 15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ada3"/>
                    </a:gs>
                    <a:gs pos="100000">
                      <a:srgbClr val="d26f5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2" name="Oval 16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23c33"/>
                    </a:gs>
                    <a:gs pos="50000">
                      <a:srgbClr val="d26f5e"/>
                    </a:gs>
                    <a:gs pos="100000">
                      <a:srgbClr val="723c33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3" name="Oval 17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66362e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4" name="Oval 18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332c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25" name="Rectangle 19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26" name="Group 127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427" name="Group 21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428" name="Oval 22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ffcc66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29" name="Oval 23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db94"/>
                    </a:gs>
                    <a:gs pos="100000">
                      <a:srgbClr val="ffcc66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0" name="Oval 24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a6e37"/>
                    </a:gs>
                    <a:gs pos="50000">
                      <a:srgbClr val="ffcc66"/>
                    </a:gs>
                    <a:gs pos="100000">
                      <a:srgbClr val="8a6e37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1" name="Oval 25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7c6332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2" name="Oval 26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6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33" name="Rectangle 27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34" name="Group 46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435" name="Oval 29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51afb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36" name="Oval 30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c5f64"/>
                  </a:gs>
                  <a:gs pos="50000">
                    <a:srgbClr val="51afb9"/>
                  </a:gs>
                  <a:gs pos="100000">
                    <a:srgbClr val="2c5f6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37" name="Group 31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438" name="Oval 32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bcad0"/>
                    </a:gs>
                    <a:gs pos="100000">
                      <a:srgbClr val="51afb9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39" name="Oval 33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27555a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440" name="Oval 34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156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441" name="Rectangle 35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442" name="Group 125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443" name="Rectangle 39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444" name="Group 121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445" name="Oval 122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6" name="Oval 123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c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447" name="Rectangle 124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8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9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욕구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경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기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욕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5)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회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모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관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법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법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Part C. </a:t>
            </a:r>
            <a:r>
              <a:rPr b="0" lang="ko-KR" sz="36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적 및 운영평가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31"/>
          <p:cNvSpPr/>
          <p:nvPr/>
        </p:nvSpPr>
        <p:spPr>
          <a:xfrm>
            <a:off x="755640" y="1989000"/>
            <a:ext cx="345600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센터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12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개소 내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34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명의 실무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력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교육체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근무환경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직무스트레스와 만족도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재정현황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홍보 및 사례관리 실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적 특성과 여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설문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유형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밀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기술통계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1" name="Rectangle 14"/>
          <p:cNvSpPr/>
          <p:nvPr/>
        </p:nvSpPr>
        <p:spPr>
          <a:xfrm>
            <a:off x="0" y="260280"/>
            <a:ext cx="9144000" cy="79236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구 설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"/>
          <p:cNvSpPr/>
          <p:nvPr/>
        </p:nvSpPr>
        <p:spPr>
          <a:xfrm>
            <a:off x="826920" y="1197000"/>
            <a:ext cx="345780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양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"/>
          <p:cNvSpPr/>
          <p:nvPr/>
        </p:nvSpPr>
        <p:spPr>
          <a:xfrm>
            <a:off x="4932360" y="1197000"/>
            <a:ext cx="3457440" cy="71928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적 조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Rectangle 31"/>
          <p:cNvSpPr/>
          <p:nvPr/>
        </p:nvSpPr>
        <p:spPr>
          <a:xfrm>
            <a:off x="4932360" y="1989000"/>
            <a:ext cx="3529080" cy="4248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대상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아동과 가족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실무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역연계자원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외부 전문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조사영역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에 대한 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사업 내용과 운영의 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자료수집방법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: 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포커스 그룹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분석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지속적 비교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split dir="in" orient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16"/>
          <p:cNvGrpSpPr/>
          <p:nvPr/>
        </p:nvGrpSpPr>
        <p:grpSpPr>
          <a:xfrm>
            <a:off x="0" y="1052640"/>
            <a:ext cx="2071800" cy="914400"/>
            <a:chOff x="0" y="1052640"/>
            <a:chExt cx="2071800" cy="914400"/>
          </a:xfrm>
        </p:grpSpPr>
        <p:sp>
          <p:nvSpPr>
            <p:cNvPr id="457" name="AutoShape 17"/>
            <p:cNvSpPr/>
            <p:nvPr/>
          </p:nvSpPr>
          <p:spPr>
            <a:xfrm>
              <a:off x="0" y="1052640"/>
              <a:ext cx="2071800" cy="91440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8" name="Text Box 18"/>
            <p:cNvSpPr/>
            <p:nvPr/>
          </p:nvSpPr>
          <p:spPr>
            <a:xfrm>
              <a:off x="457920" y="129672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9" name="Text Box 20"/>
          <p:cNvSpPr/>
          <p:nvPr/>
        </p:nvSpPr>
        <p:spPr>
          <a:xfrm>
            <a:off x="179280" y="12682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력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60" name="Group 22"/>
          <p:cNvGrpSpPr/>
          <p:nvPr/>
        </p:nvGrpSpPr>
        <p:grpSpPr>
          <a:xfrm>
            <a:off x="0" y="3429000"/>
            <a:ext cx="2071800" cy="863640"/>
            <a:chOff x="0" y="3429000"/>
            <a:chExt cx="2071800" cy="863640"/>
          </a:xfrm>
        </p:grpSpPr>
        <p:sp>
          <p:nvSpPr>
            <p:cNvPr id="461" name="AutoShape 23"/>
            <p:cNvSpPr/>
            <p:nvPr/>
          </p:nvSpPr>
          <p:spPr>
            <a:xfrm>
              <a:off x="0" y="342900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62" name="Text Box 24"/>
            <p:cNvSpPr/>
            <p:nvPr/>
          </p:nvSpPr>
          <p:spPr>
            <a:xfrm>
              <a:off x="457920" y="365940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3" name="Text Box 21"/>
          <p:cNvSpPr/>
          <p:nvPr/>
        </p:nvSpPr>
        <p:spPr>
          <a:xfrm>
            <a:off x="179280" y="3573360"/>
            <a:ext cx="18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교육훈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인력현황과 교육체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회복지 실무경력   희망센터 근무기간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월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36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7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4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6" name="Rectangle 31"/>
          <p:cNvSpPr/>
          <p:nvPr/>
        </p:nvSpPr>
        <p:spPr>
          <a:xfrm>
            <a:off x="2124000" y="3500280"/>
            <a:ext cx="6696000" cy="2016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내부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외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4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0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-3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9-3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1-3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1" name="Text Box 20"/>
          <p:cNvSpPr/>
          <p:nvPr/>
        </p:nvSpPr>
        <p:spPr>
          <a:xfrm>
            <a:off x="179280" y="1197000"/>
            <a:ext cx="18003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로계약과 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평균 사례 수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72" name="Group 22"/>
          <p:cNvGrpSpPr/>
          <p:nvPr/>
        </p:nvGrpSpPr>
        <p:grpSpPr>
          <a:xfrm>
            <a:off x="0" y="3573360"/>
            <a:ext cx="2071800" cy="863640"/>
            <a:chOff x="0" y="3573360"/>
            <a:chExt cx="2071800" cy="863640"/>
          </a:xfrm>
        </p:grpSpPr>
        <p:sp>
          <p:nvSpPr>
            <p:cNvPr id="473" name="AutoShape 23"/>
            <p:cNvSpPr/>
            <p:nvPr/>
          </p:nvSpPr>
          <p:spPr>
            <a:xfrm>
              <a:off x="0" y="3573360"/>
              <a:ext cx="2071800" cy="863640"/>
            </a:xfrm>
            <a:custGeom>
              <a:avLst/>
              <a:gdLst>
                <a:gd name="textAreaLeft" fmla="*/ 0 w 2071800"/>
                <a:gd name="textAreaRight" fmla="*/ 2072160 w 2071800"/>
                <a:gd name="textAreaTop" fmla="*/ 0 h 863640"/>
                <a:gd name="textAreaBottom" fmla="*/ 86400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74" name="Text Box 24"/>
            <p:cNvSpPr/>
            <p:nvPr/>
          </p:nvSpPr>
          <p:spPr>
            <a:xfrm>
              <a:off x="457920" y="3803760"/>
              <a:ext cx="1513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75" name="Text Box 21"/>
          <p:cNvSpPr/>
          <p:nvPr/>
        </p:nvSpPr>
        <p:spPr>
          <a:xfrm>
            <a:off x="179280" y="3716280"/>
            <a:ext cx="1873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초과근무와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7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보상체계</a:t>
            </a:r>
            <a:endParaRPr b="0" lang="en-US" sz="17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근무환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정규직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개입사례 수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한 달 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5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2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28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초과근무 시간   보상여부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주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있음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7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3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10.9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7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7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4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3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스트레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 스트레스와 만족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5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486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87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88" name="Text Box 20"/>
          <p:cNvSpPr/>
          <p:nvPr/>
        </p:nvSpPr>
        <p:spPr>
          <a:xfrm>
            <a:off x="179280" y="386064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직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9" name="Rectangle 31"/>
          <p:cNvSpPr/>
          <p:nvPr/>
        </p:nvSpPr>
        <p:spPr>
          <a:xfrm>
            <a:off x="2124000" y="105264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1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7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3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2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0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9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문항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척도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45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점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1.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369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2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2" name="Group 16"/>
          <p:cNvGrpSpPr/>
          <p:nvPr/>
        </p:nvGrpSpPr>
        <p:grpSpPr>
          <a:xfrm>
            <a:off x="0" y="1052640"/>
            <a:ext cx="2050920" cy="1152000"/>
            <a:chOff x="0" y="1052640"/>
            <a:chExt cx="2050920" cy="1152000"/>
          </a:xfrm>
        </p:grpSpPr>
        <p:sp>
          <p:nvSpPr>
            <p:cNvPr id="493" name="AutoShape 17"/>
            <p:cNvSpPr/>
            <p:nvPr/>
          </p:nvSpPr>
          <p:spPr>
            <a:xfrm>
              <a:off x="0" y="1052640"/>
              <a:ext cx="2050920" cy="11520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1152000"/>
                <a:gd name="textAreaBottom" fmla="*/ 1152360 h 1152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94" name="Text Box 18"/>
            <p:cNvSpPr/>
            <p:nvPr/>
          </p:nvSpPr>
          <p:spPr>
            <a:xfrm>
              <a:off x="453240" y="1360080"/>
              <a:ext cx="149832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95" name="Text Box 20"/>
          <p:cNvSpPr/>
          <p:nvPr/>
        </p:nvSpPr>
        <p:spPr>
          <a:xfrm>
            <a:off x="179280" y="1052640"/>
            <a:ext cx="180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단위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원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동모금회 아동희망센터 질적 성과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재정현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98" name="Group 16"/>
          <p:cNvGrpSpPr/>
          <p:nvPr/>
        </p:nvGrpSpPr>
        <p:grpSpPr>
          <a:xfrm>
            <a:off x="0" y="3357720"/>
            <a:ext cx="2124000" cy="1223280"/>
            <a:chOff x="0" y="3357720"/>
            <a:chExt cx="2124000" cy="1223280"/>
          </a:xfrm>
        </p:grpSpPr>
        <p:sp>
          <p:nvSpPr>
            <p:cNvPr id="499" name="AutoShape 17"/>
            <p:cNvSpPr/>
            <p:nvPr/>
          </p:nvSpPr>
          <p:spPr>
            <a:xfrm>
              <a:off x="0" y="3357720"/>
              <a:ext cx="2124000" cy="122328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1223280"/>
                <a:gd name="textAreaBottom" fmla="*/ 1223640 h 122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0" name="Text Box 18"/>
            <p:cNvSpPr/>
            <p:nvPr/>
          </p:nvSpPr>
          <p:spPr>
            <a:xfrm>
              <a:off x="469440" y="36842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1" name="Text Box 20"/>
          <p:cNvSpPr/>
          <p:nvPr/>
        </p:nvSpPr>
        <p:spPr>
          <a:xfrm>
            <a:off x="250920" y="3500280"/>
            <a:ext cx="180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2007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항목별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예산편성 비율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2" name="Rectangle 31"/>
          <p:cNvSpPr/>
          <p:nvPr/>
        </p:nvSpPr>
        <p:spPr>
          <a:xfrm>
            <a:off x="2124000" y="3429000"/>
            <a:ext cx="6696000" cy="2664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사업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인건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운영비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기타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43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39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34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6.1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0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3" name="Rectangle 31"/>
          <p:cNvSpPr/>
          <p:nvPr/>
        </p:nvSpPr>
        <p:spPr>
          <a:xfrm>
            <a:off x="2050920" y="981000"/>
            <a:ext cx="6696360" cy="2160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계획                      집행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(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센터평균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)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지원금    자부담금     지원금   자부담금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11,500     268    10,581  3,234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2,300   1,403    11,716   9,136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11,833     973     11,234   3,958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4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05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6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07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Outreach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굴사례 비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8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특성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09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10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1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2" name="Text Box 20"/>
          <p:cNvSpPr/>
          <p:nvPr/>
        </p:nvSpPr>
        <p:spPr>
          <a:xfrm>
            <a:off x="179280" y="38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종결사례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유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Outreach 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비중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  서비스제공 경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%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2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5.7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40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화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5.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    56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문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62.9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4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    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이용자 실무자 이용자와 외부조건 기타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원해서 판단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합의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 17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8.4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4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2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0.6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9.5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2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9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.8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8.3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2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0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16.7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6" name="Group 16"/>
          <p:cNvGrpSpPr/>
          <p:nvPr/>
        </p:nvGrpSpPr>
        <p:grpSpPr>
          <a:xfrm>
            <a:off x="0" y="836640"/>
            <a:ext cx="2050920" cy="914400"/>
            <a:chOff x="0" y="836640"/>
            <a:chExt cx="2050920" cy="914400"/>
          </a:xfrm>
        </p:grpSpPr>
        <p:sp>
          <p:nvSpPr>
            <p:cNvPr id="517" name="AutoShape 17"/>
            <p:cNvSpPr/>
            <p:nvPr/>
          </p:nvSpPr>
          <p:spPr>
            <a:xfrm>
              <a:off x="0" y="836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18" name="Text Box 18"/>
            <p:cNvSpPr/>
            <p:nvPr/>
          </p:nvSpPr>
          <p:spPr>
            <a:xfrm>
              <a:off x="453240" y="1080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19" name="Text Box 20"/>
          <p:cNvSpPr/>
          <p:nvPr/>
        </p:nvSpPr>
        <p:spPr>
          <a:xfrm>
            <a:off x="179280" y="981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접수사례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원단 자료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례관리 실적 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(2007. 12.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현재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24" name=""/>
          <p:cNvGraphicFramePr/>
          <p:nvPr/>
        </p:nvGraphicFramePr>
        <p:xfrm>
          <a:off x="250920" y="1557360"/>
          <a:ext cx="8713800" cy="4340160"/>
        </p:xfrm>
        <a:graphic>
          <a:graphicData uri="http://schemas.openxmlformats.org/drawingml/2006/table">
            <a:tbl>
              <a:tblPr/>
              <a:tblGrid>
                <a:gridCol w="885600"/>
                <a:gridCol w="738360"/>
                <a:gridCol w="706320"/>
                <a:gridCol w="847800"/>
                <a:gridCol w="846000"/>
                <a:gridCol w="657360"/>
                <a:gridCol w="822240"/>
                <a:gridCol w="636840"/>
                <a:gridCol w="915840"/>
                <a:gridCol w="635040"/>
                <a:gridCol w="1022400"/>
              </a:tblGrid>
              <a:tr h="550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지역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 사례 수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접수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목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실행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차년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종결 사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평균 개입기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778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</a:t>
                      </a:r>
                      <a:r>
                        <a:rPr b="1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센터당 평균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%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81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밀집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4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7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2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5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6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2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5.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도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분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8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43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6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9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9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58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66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8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3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5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2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.8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농어촌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n=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8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3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0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3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8.9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1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1.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1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30.3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총계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135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94.6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,067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88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94.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80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67.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75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63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1.9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24.6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4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(28.7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32.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휴먼엑스포"/>
                          <a:ea typeface="휴먼엑스포"/>
                        </a:rPr>
                        <a:t>10.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2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2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29" name="Text Box 20"/>
          <p:cNvSpPr/>
          <p:nvPr/>
        </p:nvSpPr>
        <p:spPr>
          <a:xfrm>
            <a:off x="179280" y="1268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이직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31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32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3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34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5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개소 후 현재까지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신규직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채용시 어려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6.7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에 대한 이해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7.2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격조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50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례관리 경험부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3.0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6" name="Rectangle 31"/>
          <p:cNvSpPr/>
          <p:nvPr/>
        </p:nvSpPr>
        <p:spPr>
          <a:xfrm>
            <a:off x="2195640" y="371628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모기관 행사지원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업무독립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비중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%)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	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인식도 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매우 높다</a:t>
            </a: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휴먼모음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0.9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3.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4.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2.0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9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19.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6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3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1" name="Text Box 20"/>
          <p:cNvSpPr/>
          <p:nvPr/>
        </p:nvSpPr>
        <p:spPr>
          <a:xfrm>
            <a:off x="179280" y="119700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행정공무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태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지역적 여건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43" name="Group 16"/>
          <p:cNvGrpSpPr/>
          <p:nvPr/>
        </p:nvGrpSpPr>
        <p:grpSpPr>
          <a:xfrm>
            <a:off x="0" y="3357720"/>
            <a:ext cx="2124000" cy="914400"/>
            <a:chOff x="0" y="3357720"/>
            <a:chExt cx="2124000" cy="914400"/>
          </a:xfrm>
        </p:grpSpPr>
        <p:sp>
          <p:nvSpPr>
            <p:cNvPr id="544" name="AutoShape 17"/>
            <p:cNvSpPr/>
            <p:nvPr/>
          </p:nvSpPr>
          <p:spPr>
            <a:xfrm>
              <a:off x="0" y="335772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45" name="Text Box 18"/>
            <p:cNvSpPr/>
            <p:nvPr/>
          </p:nvSpPr>
          <p:spPr>
            <a:xfrm>
              <a:off x="469440" y="360180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46" name="Text Box 20"/>
          <p:cNvSpPr/>
          <p:nvPr/>
        </p:nvSpPr>
        <p:spPr>
          <a:xfrm>
            <a:off x="179280" y="3500280"/>
            <a:ext cx="18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연계자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Arial"/>
                <a:ea typeface="휴먼엑스포"/>
              </a:rPr>
              <a:t>센터평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Rectangle 31"/>
          <p:cNvSpPr/>
          <p:nvPr/>
        </p:nvSpPr>
        <p:spPr>
          <a:xfrm>
            <a:off x="2124000" y="981000"/>
            <a:ext cx="6696000" cy="230508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ko-KR" sz="24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의 인식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5=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매우 협조적이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밀집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 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3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도시분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5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2.86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총 평균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3.21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Rectangle 31"/>
          <p:cNvSpPr/>
          <p:nvPr/>
        </p:nvSpPr>
        <p:spPr>
          <a:xfrm>
            <a:off x="395280" y="4365720"/>
            <a:ext cx="849636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 아동과 가족 복지서비스 연계활동 활성화에 기여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내 아동과 가족의 복지를 증진시키는 데 공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3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는 업무수행을 위해 자신의 능력을 잘 발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32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과 다른 고유한 특성을 가지고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3.0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82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른 기관의 실무자들과 다른 고유한 특성이 있다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(2.98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43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서비스 일수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평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27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의뢰경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외부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7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민간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53%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+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교육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83%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직접서비스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6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연계서비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35% 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발달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본생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심리정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양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4" name="Rectangle 31"/>
          <p:cNvSpPr/>
          <p:nvPr/>
        </p:nvSpPr>
        <p:spPr>
          <a:xfrm>
            <a:off x="250920" y="1125360"/>
            <a:ext cx="8642160" cy="4967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욕구에 따른 시기적으로 타당한 슈퍼비젼과 교육훈련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통적인 실천원칙과 강점관점 실천원칙 사이에서 혼란을 경험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역적 특성들을 아우를 수 있도록 강점관점과 실천모델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통일되게 그리고 지속적으로 교육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․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훈련하는 과정이 체계적으로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농어촌 지역 실무자들의 근무환경과 지역적 여건이 상대적으로 비우호적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지지 자원을 제공하는 것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향후 본 센터의 사업의 목적과 내용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실무자들의 업무수행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식에 있어 사업이 지향하는 취지와 실천방향이 더욱 분명히 드러날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수 있는 방안을 강구해야 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57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58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59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만족</a:t>
            </a:r>
            <a:r>
              <a:rPr b="1" lang="en-US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/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불만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영역과 이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이용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61" name="Group 16"/>
          <p:cNvGrpSpPr/>
          <p:nvPr/>
        </p:nvGrpSpPr>
        <p:grpSpPr>
          <a:xfrm>
            <a:off x="0" y="3284640"/>
            <a:ext cx="2124000" cy="914400"/>
            <a:chOff x="0" y="3284640"/>
            <a:chExt cx="2124000" cy="914400"/>
          </a:xfrm>
        </p:grpSpPr>
        <p:sp>
          <p:nvSpPr>
            <p:cNvPr id="562" name="AutoShape 17"/>
            <p:cNvSpPr/>
            <p:nvPr/>
          </p:nvSpPr>
          <p:spPr>
            <a:xfrm>
              <a:off x="0" y="328464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63" name="Text Box 18"/>
            <p:cNvSpPr/>
            <p:nvPr/>
          </p:nvSpPr>
          <p:spPr>
            <a:xfrm>
              <a:off x="469440" y="352872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64" name="Text Box 20"/>
          <p:cNvSpPr/>
          <p:nvPr/>
        </p:nvSpPr>
        <p:spPr>
          <a:xfrm>
            <a:off x="179280" y="350028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5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직접 내방하여 자신들의 욕구에 부합한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들과 다양한 문화체험을 한 후 마음에 여유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삶에 대한 비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과 가족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가 긍정적으로 변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폭넓은 지원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빠르고 정확한 업무 처리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6" name="Rectangle 31"/>
          <p:cNvSpPr/>
          <p:nvPr/>
        </p:nvSpPr>
        <p:spPr>
          <a:xfrm>
            <a:off x="324000" y="4365720"/>
            <a:ext cx="8640720" cy="1871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욕구를 가진 청소년에게도 필요한 서비스가 지속적으로 제공되기를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자녀와 함께 하는 가족캠프 프로그램과 건강 관련 서비스에 대한 욕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으로 운영되는 우리아이 희망네트워크 지원사업의 종결을 우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지속적으로 운영되고 좀 더 많은 사람이 이용할 수 있도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에 좀 더 널리 알려지길 희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7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69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0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1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공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2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연계자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73" name="Group 16"/>
          <p:cNvGrpSpPr/>
          <p:nvPr/>
        </p:nvGrpSpPr>
        <p:grpSpPr>
          <a:xfrm>
            <a:off x="0" y="3716280"/>
            <a:ext cx="2124000" cy="914400"/>
            <a:chOff x="0" y="3716280"/>
            <a:chExt cx="2124000" cy="914400"/>
          </a:xfrm>
        </p:grpSpPr>
        <p:sp>
          <p:nvSpPr>
            <p:cNvPr id="574" name="AutoShape 17"/>
            <p:cNvSpPr/>
            <p:nvPr/>
          </p:nvSpPr>
          <p:spPr>
            <a:xfrm>
              <a:off x="0" y="371628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75" name="Text Box 18"/>
            <p:cNvSpPr/>
            <p:nvPr/>
          </p:nvSpPr>
          <p:spPr>
            <a:xfrm>
              <a:off x="469440" y="396036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76" name="Text Box 20"/>
          <p:cNvSpPr/>
          <p:nvPr/>
        </p:nvSpPr>
        <p:spPr>
          <a:xfrm>
            <a:off x="179280" y="393372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7" name="Rectangle 31"/>
          <p:cNvSpPr/>
          <p:nvPr/>
        </p:nvSpPr>
        <p:spPr>
          <a:xfrm>
            <a:off x="2050920" y="1052640"/>
            <a:ext cx="669636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본 사업이 아동보호에 대한 지역사회의 관심증대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가족중심으로의 관점의 확대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그리고 관련 전문가들이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함께 모여 공동의 노력을 경주할 수 있는 연대의 장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마련하는 데 중추적인 역할을 담당하였다고 인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8" name="Rectangle 31"/>
          <p:cNvSpPr/>
          <p:nvPr/>
        </p:nvSpPr>
        <p:spPr>
          <a:xfrm>
            <a:off x="2124000" y="3789360"/>
            <a:ext cx="6696000" cy="2016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충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무자들의 원거리 이동을 지원할 수 있는 차량 또는 여비지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대상 인원과 제공시간의 확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부모와 아동을 대상으로 하는 교육프로그램의 보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후관리에 대한 지역연계 활동</a:t>
            </a:r>
            <a:r>
              <a:rPr b="1" lang="ko-KR" sz="18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0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81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2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3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사업수행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경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4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실무자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585" name="Group 16"/>
          <p:cNvGrpSpPr/>
          <p:nvPr/>
        </p:nvGrpSpPr>
        <p:grpSpPr>
          <a:xfrm>
            <a:off x="0" y="2565360"/>
            <a:ext cx="2124000" cy="914400"/>
            <a:chOff x="0" y="2565360"/>
            <a:chExt cx="2124000" cy="914400"/>
          </a:xfrm>
        </p:grpSpPr>
        <p:sp>
          <p:nvSpPr>
            <p:cNvPr id="586" name="AutoShape 17"/>
            <p:cNvSpPr/>
            <p:nvPr/>
          </p:nvSpPr>
          <p:spPr>
            <a:xfrm>
              <a:off x="0" y="2565360"/>
              <a:ext cx="2124000" cy="914400"/>
            </a:xfrm>
            <a:custGeom>
              <a:avLst/>
              <a:gdLst>
                <a:gd name="textAreaLeft" fmla="*/ 0 w 2124000"/>
                <a:gd name="textAreaRight" fmla="*/ 2124360 w 212400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87" name="Text Box 18"/>
            <p:cNvSpPr/>
            <p:nvPr/>
          </p:nvSpPr>
          <p:spPr>
            <a:xfrm>
              <a:off x="469440" y="2809440"/>
              <a:ext cx="1551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88" name="Text Box 20"/>
          <p:cNvSpPr/>
          <p:nvPr/>
        </p:nvSpPr>
        <p:spPr>
          <a:xfrm>
            <a:off x="324000" y="2852640"/>
            <a:ext cx="18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개선방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9" name="Rectangle 31"/>
          <p:cNvSpPr/>
          <p:nvPr/>
        </p:nvSpPr>
        <p:spPr>
          <a:xfrm>
            <a:off x="2050920" y="1052640"/>
            <a:ext cx="6696360" cy="143964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특성과 사례관리 서비스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모법인의 형태와 지원에 따른 유리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불리한 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역사회 자원과의 연계활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0" name="Rectangle 31"/>
          <p:cNvSpPr/>
          <p:nvPr/>
        </p:nvSpPr>
        <p:spPr>
          <a:xfrm>
            <a:off x="324000" y="3573360"/>
            <a:ext cx="8496000" cy="259236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 초기 본 사업의 방향과 비전을 공유할 수 있는 장이 마련될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시범사업의 특성상 고용에 대한 불안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 계획과 집행에 있어 융통성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 일관된 슈퍼비전이 가능하도록 제도적 보완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서비스 이용자를 직접 만나는 사례개입 외에 행정 업무 지원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평가를 위한 전산화 시스템의 안정적 운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계량적 평가와 질적 부분에 대한 평가도 포함되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542880" indent="-5428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업무과중의 부담을 해소하여 실무자들의 소진을 방지해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1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2" name="Group 16"/>
          <p:cNvGrpSpPr/>
          <p:nvPr/>
        </p:nvGrpSpPr>
        <p:grpSpPr>
          <a:xfrm>
            <a:off x="0" y="1052640"/>
            <a:ext cx="2050920" cy="914400"/>
            <a:chOff x="0" y="1052640"/>
            <a:chExt cx="2050920" cy="914400"/>
          </a:xfrm>
        </p:grpSpPr>
        <p:sp>
          <p:nvSpPr>
            <p:cNvPr id="593" name="AutoShape 17"/>
            <p:cNvSpPr/>
            <p:nvPr/>
          </p:nvSpPr>
          <p:spPr>
            <a:xfrm>
              <a:off x="0" y="1052640"/>
              <a:ext cx="2050920" cy="914400"/>
            </a:xfrm>
            <a:custGeom>
              <a:avLst/>
              <a:gdLst>
                <a:gd name="textAreaLeft" fmla="*/ 0 w 2050920"/>
                <a:gd name="textAreaRight" fmla="*/ 2051280 w 2050920"/>
                <a:gd name="textAreaTop" fmla="*/ 0 h 914400"/>
                <a:gd name="textAreaBottom" fmla="*/ 91476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lnTo>
                    <a:pt x="540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164df">
                    <a:alpha val="90196"/>
                  </a:srgbClr>
                </a:gs>
                <a:gs pos="100000">
                  <a:srgbClr val="2d2e6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94" name="Text Box 18"/>
            <p:cNvSpPr/>
            <p:nvPr/>
          </p:nvSpPr>
          <p:spPr>
            <a:xfrm>
              <a:off x="453240" y="1296720"/>
              <a:ext cx="1498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595" name="Text Box 20"/>
          <p:cNvSpPr/>
          <p:nvPr/>
        </p:nvSpPr>
        <p:spPr>
          <a:xfrm>
            <a:off x="179280" y="119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본 사업의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발전방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외부 전문가 집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Text Box 20"/>
          <p:cNvSpPr/>
          <p:nvPr/>
        </p:nvSpPr>
        <p:spPr>
          <a:xfrm>
            <a:off x="179280" y="3860640"/>
            <a:ext cx="18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ㅓ</a:t>
            </a:r>
            <a:r>
              <a:rPr b="1" lang="en-US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,</a:t>
            </a:r>
            <a:r>
              <a:rPr b="1" lang="ko-KR" sz="20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안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Rectangle 31"/>
          <p:cNvSpPr/>
          <p:nvPr/>
        </p:nvSpPr>
        <p:spPr>
          <a:xfrm>
            <a:off x="395280" y="2060640"/>
            <a:ext cx="8280360" cy="417672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아동복지서비스의 양적 확대와 지역 간 불균형 해소는 매우 중요한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과제이므로 민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·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관이 함께 풀어나가야 할 것이며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다양한 프로그램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극적인 적용과 효과성 비교분석은 민간영역에서 담당하기에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적절한 역할이라 제시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한 아동복지 서비스들이 다양한 공급주체에 의해 제공되는 현상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반드시 중복의 문제로 접근할 필요는 없음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유사사업 관련자들이 경쟁관계가 아닌 협력관계로 전환하여 각자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역할을 강화시켜 줄 수 있는 환경구축이 필요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현재 진행되는 다양한 사업들의 모형 정립과 이들의 협력관계가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공동체로 형성되어 가는 과정에 대한 연구의 필요성이 제기됨</a:t>
            </a:r>
            <a:r>
              <a:rPr b="1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14"/>
          <p:cNvSpPr/>
          <p:nvPr/>
        </p:nvSpPr>
        <p:spPr>
          <a:xfrm>
            <a:off x="0" y="0"/>
            <a:ext cx="9144000" cy="792000"/>
          </a:xfrm>
          <a:prstGeom prst="rect">
            <a:avLst/>
          </a:prstGeom>
          <a:gradFill rotWithShape="0">
            <a:gsLst>
              <a:gs pos="0">
                <a:srgbClr val="0081d0"/>
              </a:gs>
              <a:gs pos="50000">
                <a:srgbClr val="219ef3"/>
              </a:gs>
              <a:gs pos="100000">
                <a:srgbClr val="0081d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질적 조사결과</a:t>
            </a:r>
            <a:r>
              <a:rPr b="0" lang="en-US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결론 및 제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Text Box 20"/>
          <p:cNvSpPr/>
          <p:nvPr/>
        </p:nvSpPr>
        <p:spPr>
          <a:xfrm>
            <a:off x="179280" y="3645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제공기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"/>
          <p:cNvSpPr/>
          <p:nvPr/>
        </p:nvSpPr>
        <p:spPr>
          <a:xfrm>
            <a:off x="0" y="270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446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Rectangle 31"/>
          <p:cNvSpPr/>
          <p:nvPr/>
        </p:nvSpPr>
        <p:spPr>
          <a:xfrm>
            <a:off x="179280" y="981000"/>
            <a:ext cx="8713800" cy="5112000"/>
          </a:xfrm>
          <a:prstGeom prst="rect">
            <a:avLst/>
          </a:prstGeom>
          <a:gradFill rotWithShape="0">
            <a:gsLst>
              <a:gs pos="0">
                <a:srgbClr val="fff0b6"/>
              </a:gs>
              <a:gs pos="100000">
                <a:srgbClr val="ffcc00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사업의 지원규모와 지속성의 확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강점관점 실천에 대한 모법인과 실무자들의 의지를 평가하는 항목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고용의 안정성 확보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예산집행의 융통성 확대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속적이고도 일관된 방향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슈퍼비전과 네트워크에 대한 교육 및 훈련의 제공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인력의 확충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효율적인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전산처리를 위한 시스템의 보완과 과업수행의 질적인 부분을 평가할 수 있는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방안이 필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동일한 서비스 대상을 두고 기관 간의 경쟁을 부추기는 실적위주의 평가를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지양</a:t>
            </a:r>
            <a:r>
              <a:rPr b="0" lang="en-US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 형성을 위한 노력과 활동이 높이 평가될 수 있는 체계 마련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실제 현장 사업의 모형을 정리하는 작업과 유사사업 주체들 간의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휴먼엑스포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휴먼엑스포"/>
                <a:ea typeface="휴먼엑스포"/>
              </a:rPr>
              <a:t>협력관계가 장기적으로 발전하여 공동체로 성장해 가는 과정에 대한 연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Rectangle 25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아동희망센터 사업 실적 및 운영 평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d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607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608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609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3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14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22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624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625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29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0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632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34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637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640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641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642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6" name=""/>
          <p:cNvSpPr/>
          <p:nvPr/>
        </p:nvSpPr>
        <p:spPr>
          <a:xfrm>
            <a:off x="971640" y="2089080"/>
            <a:ext cx="7559640" cy="191628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C. </a:t>
            </a:r>
            <a:r>
              <a:rPr b="0" lang="ko-KR" sz="3000" spc="-1" strike="noStrike">
                <a:solidFill>
                  <a:srgbClr val="000000"/>
                </a:solidFill>
                <a:latin typeface="HY견명조"/>
                <a:ea typeface="HY견명조"/>
              </a:rPr>
              <a:t>서비스 연계활동과 네트워크 연구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24000" y="1989000"/>
            <a:ext cx="8495640" cy="936720"/>
            <a:chOff x="324000" y="1989000"/>
            <a:chExt cx="8495640" cy="936720"/>
          </a:xfrm>
        </p:grpSpPr>
        <p:sp>
          <p:nvSpPr>
            <p:cNvPr id="649" name=""/>
            <p:cNvSpPr/>
            <p:nvPr/>
          </p:nvSpPr>
          <p:spPr>
            <a:xfrm>
              <a:off x="324000" y="1989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0" name=""/>
            <p:cNvGrpSpPr/>
            <p:nvPr/>
          </p:nvGrpSpPr>
          <p:grpSpPr>
            <a:xfrm>
              <a:off x="509040" y="2075040"/>
              <a:ext cx="1637280" cy="766080"/>
              <a:chOff x="509040" y="2075040"/>
              <a:chExt cx="1637280" cy="766080"/>
            </a:xfrm>
          </p:grpSpPr>
          <p:sp>
            <p:nvSpPr>
              <p:cNvPr id="651" name=""/>
              <p:cNvSpPr/>
              <p:nvPr/>
            </p:nvSpPr>
            <p:spPr>
              <a:xfrm>
                <a:off x="509040" y="2075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611280" y="2124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774720" y="2368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54" name=""/>
            <p:cNvSpPr/>
            <p:nvPr/>
          </p:nvSpPr>
          <p:spPr>
            <a:xfrm>
              <a:off x="2370960" y="2133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전국 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2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개 센터의 서비스 연계 활동을 어떠한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지역 유형별 연계 현황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755640" y="404640"/>
            <a:ext cx="2087640" cy="110196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질문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24000" y="3213000"/>
            <a:ext cx="8495640" cy="936720"/>
            <a:chOff x="324000" y="3213000"/>
            <a:chExt cx="8495640" cy="936720"/>
          </a:xfrm>
        </p:grpSpPr>
        <p:sp>
          <p:nvSpPr>
            <p:cNvPr id="657" name=""/>
            <p:cNvSpPr/>
            <p:nvPr/>
          </p:nvSpPr>
          <p:spPr>
            <a:xfrm>
              <a:off x="324000" y="3213000"/>
              <a:ext cx="849564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58" name=""/>
            <p:cNvGrpSpPr/>
            <p:nvPr/>
          </p:nvGrpSpPr>
          <p:grpSpPr>
            <a:xfrm>
              <a:off x="509040" y="3299040"/>
              <a:ext cx="1637280" cy="766080"/>
              <a:chOff x="509040" y="3299040"/>
              <a:chExt cx="1637280" cy="766080"/>
            </a:xfrm>
          </p:grpSpPr>
          <p:sp>
            <p:nvSpPr>
              <p:cNvPr id="659" name=""/>
              <p:cNvSpPr/>
              <p:nvPr/>
            </p:nvSpPr>
            <p:spPr>
              <a:xfrm>
                <a:off x="509040" y="3299040"/>
                <a:ext cx="16372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611280" y="334836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774720" y="359280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2" name=""/>
            <p:cNvSpPr/>
            <p:nvPr/>
          </p:nvSpPr>
          <p:spPr>
            <a:xfrm>
              <a:off x="2370960" y="335772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 연계 활동 영향요인과 효과는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63" name=""/>
          <p:cNvGrpSpPr/>
          <p:nvPr/>
        </p:nvGrpSpPr>
        <p:grpSpPr>
          <a:xfrm>
            <a:off x="395280" y="4724280"/>
            <a:ext cx="8496000" cy="936720"/>
            <a:chOff x="395280" y="4724280"/>
            <a:chExt cx="8496000" cy="936720"/>
          </a:xfrm>
        </p:grpSpPr>
        <p:sp>
          <p:nvSpPr>
            <p:cNvPr id="664" name=""/>
            <p:cNvSpPr/>
            <p:nvPr/>
          </p:nvSpPr>
          <p:spPr>
            <a:xfrm>
              <a:off x="395280" y="4724280"/>
              <a:ext cx="849600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65" name=""/>
            <p:cNvGrpSpPr/>
            <p:nvPr/>
          </p:nvGrpSpPr>
          <p:grpSpPr>
            <a:xfrm>
              <a:off x="580320" y="4810320"/>
              <a:ext cx="1637640" cy="766080"/>
              <a:chOff x="580320" y="4810320"/>
              <a:chExt cx="1637640" cy="766080"/>
            </a:xfrm>
          </p:grpSpPr>
          <p:sp>
            <p:nvSpPr>
              <p:cNvPr id="666" name=""/>
              <p:cNvSpPr/>
              <p:nvPr/>
            </p:nvSpPr>
            <p:spPr>
              <a:xfrm>
                <a:off x="580320" y="4810320"/>
                <a:ext cx="163764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82560" y="4859640"/>
                <a:ext cx="8164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46360" y="5104080"/>
                <a:ext cx="106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질문 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69" name=""/>
            <p:cNvSpPr/>
            <p:nvPr/>
          </p:nvSpPr>
          <p:spPr>
            <a:xfrm>
              <a:off x="2442240" y="4869000"/>
              <a:ext cx="624420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2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희망네트워크 지원사업의 네트워크 특성은 무엇인가</a:t>
              </a:r>
              <a:r>
                <a:rPr b="0" lang="en-US" sz="19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?</a:t>
              </a:r>
              <a:endParaRPr b="0" lang="en-US" sz="19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67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7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67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7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678" name=""/>
          <p:cNvGrpSpPr/>
          <p:nvPr/>
        </p:nvGrpSpPr>
        <p:grpSpPr>
          <a:xfrm>
            <a:off x="250920" y="3284640"/>
            <a:ext cx="8569080" cy="1152360"/>
            <a:chOff x="250920" y="3284640"/>
            <a:chExt cx="8569080" cy="1152360"/>
          </a:xfrm>
        </p:grpSpPr>
        <p:sp>
          <p:nvSpPr>
            <p:cNvPr id="679" name=""/>
            <p:cNvSpPr/>
            <p:nvPr/>
          </p:nvSpPr>
          <p:spPr>
            <a:xfrm>
              <a:off x="250920" y="3284640"/>
              <a:ext cx="8569080" cy="1152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0" name=""/>
            <p:cNvGrpSpPr/>
            <p:nvPr/>
          </p:nvGrpSpPr>
          <p:grpSpPr>
            <a:xfrm>
              <a:off x="468360" y="3370320"/>
              <a:ext cx="1620360" cy="922320"/>
              <a:chOff x="468360" y="3370320"/>
              <a:chExt cx="1620360" cy="922320"/>
            </a:xfrm>
          </p:grpSpPr>
          <p:sp>
            <p:nvSpPr>
              <p:cNvPr id="681" name=""/>
              <p:cNvSpPr/>
              <p:nvPr/>
            </p:nvSpPr>
            <p:spPr>
              <a:xfrm>
                <a:off x="468360" y="3370320"/>
                <a:ext cx="1620360" cy="9223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69520" y="3429720"/>
                <a:ext cx="807840" cy="46116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62920" y="37238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84" name=""/>
            <p:cNvSpPr/>
            <p:nvPr/>
          </p:nvSpPr>
          <p:spPr>
            <a:xfrm>
              <a:off x="2316240" y="3429000"/>
              <a:ext cx="6297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-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자원연계활동조사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2 – 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조사표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연계자원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무자 작성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구질문 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- 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 인터뷰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(</a:t>
              </a:r>
              <a:r>
                <a:rPr b="0" lang="ko-KR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실무자</a:t>
              </a:r>
              <a:r>
                <a:rPr b="0" lang="en-US" sz="18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250920" y="4724280"/>
            <a:ext cx="8568720" cy="936720"/>
            <a:chOff x="250920" y="4724280"/>
            <a:chExt cx="8568720" cy="936720"/>
          </a:xfrm>
        </p:grpSpPr>
        <p:sp>
          <p:nvSpPr>
            <p:cNvPr id="687" name=""/>
            <p:cNvSpPr/>
            <p:nvPr/>
          </p:nvSpPr>
          <p:spPr>
            <a:xfrm>
              <a:off x="250920" y="472428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437400" y="4810320"/>
              <a:ext cx="1651680" cy="766080"/>
              <a:chOff x="437400" y="4810320"/>
              <a:chExt cx="1651680" cy="766080"/>
            </a:xfrm>
          </p:grpSpPr>
          <p:sp>
            <p:nvSpPr>
              <p:cNvPr id="689" name=""/>
              <p:cNvSpPr/>
              <p:nvPr/>
            </p:nvSpPr>
            <p:spPr>
              <a:xfrm>
                <a:off x="437400" y="481032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40720" y="485964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847440" y="510408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692" name=""/>
            <p:cNvSpPr/>
            <p:nvPr/>
          </p:nvSpPr>
          <p:spPr>
            <a:xfrm>
              <a:off x="2315520" y="486900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기술통계 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spss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통계 패키지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)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도움정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1/4.0=7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다양한 서비스가 도움이 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3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아동을 잘 돌보기 위한 정보 획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2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도움이 되는 모임과 관계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2.9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5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7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일반적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9" name=""/>
          <p:cNvSpPr/>
          <p:nvPr/>
        </p:nvSpPr>
        <p:spPr>
          <a:xfrm>
            <a:off x="468360" y="1916280"/>
            <a:ext cx="8280360" cy="374472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총량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71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(2007.1.1~6.30 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</a:t>
            </a:r>
            <a:r>
              <a:rPr b="0" lang="en-US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12</a:t>
            </a:r>
            <a:r>
              <a:rPr b="0" lang="ko-KR" sz="1400" spc="-1" strike="noStrike">
                <a:solidFill>
                  <a:srgbClr val="000000"/>
                </a:solidFill>
                <a:latin typeface="HY견고딕"/>
                <a:ea typeface="HY견고딕"/>
              </a:rPr>
              <a:t>개 센터 연계자원</a:t>
            </a:r>
            <a:r>
              <a:rPr b="0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신규 비율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71.8%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서비스 영역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복지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5.5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자발적 모임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교육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8.2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보건 의료 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9.7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자원 성격별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비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4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민간 영리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22.9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비공식 부문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16.1% 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부문 </a:t>
            </a:r>
            <a:r>
              <a:rPr b="0" lang="en-US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5.5% </a:t>
            </a:r>
            <a:r>
              <a:rPr b="0" lang="ko-KR" sz="18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2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4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방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5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6" name=""/>
          <p:cNvSpPr/>
          <p:nvPr/>
        </p:nvSpPr>
        <p:spPr>
          <a:xfrm>
            <a:off x="468360" y="2276640"/>
            <a:ext cx="8136000" cy="338580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영역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54.2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지원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2.0%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21.3%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발달 문화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5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 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2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보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족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본생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5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경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심리정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7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지원영역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협의체 구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7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홍보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9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자원 개발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 활동 방식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2.7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7.1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인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5.0%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물적자원 교환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8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서비스 이용자 의뢰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3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동 사업 기획 수행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1.2%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9" name=""/>
          <p:cNvSpPr/>
          <p:nvPr/>
        </p:nvSpPr>
        <p:spPr>
          <a:xfrm>
            <a:off x="239796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1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연계 활동 질적 수준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13" name=""/>
          <p:cNvGraphicFramePr/>
          <p:nvPr/>
        </p:nvGraphicFramePr>
        <p:xfrm>
          <a:off x="539640" y="1916280"/>
          <a:ext cx="8137800" cy="4268520"/>
        </p:xfrm>
        <a:graphic>
          <a:graphicData uri="http://schemas.openxmlformats.org/drawingml/2006/table">
            <a:tbl>
              <a:tblPr/>
              <a:tblGrid>
                <a:gridCol w="1584360"/>
                <a:gridCol w="1297080"/>
                <a:gridCol w="1727280"/>
                <a:gridCol w="1873080"/>
                <a:gridCol w="1656000"/>
              </a:tblGrid>
              <a:tr h="792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2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구분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3.6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협력 수준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성과만족도 </a:t>
                      </a: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4.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ffffff"/>
                          </a:solidFill>
                          <a:latin typeface="HY견고딕"/>
                          <a:ea typeface="HY견고딕"/>
                        </a:rPr>
                        <a:t>연계주도수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87ff"/>
                          </a:solidFill>
                          <a:latin typeface="HY견고딕"/>
                          <a:ea typeface="HY견고딕"/>
                        </a:rPr>
                        <a:t>2.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1afb9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공공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5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8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7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2.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민간영리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26f5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HY강B"/>
                          <a:ea typeface="HY강B"/>
                        </a:rPr>
                        <a:t>3.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2.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ffffff"/>
                          </a:solidFill>
                          <a:latin typeface="휴먼모음T"/>
                          <a:ea typeface="휴먼모음T"/>
                        </a:rPr>
                        <a:t>비공식부문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164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9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4.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HY강B"/>
                          <a:ea typeface="HY강B"/>
                        </a:rPr>
                        <a:t>3.0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fafafa"/>
                        </a:gs>
                        <a:gs pos="100000">
                          <a:srgbClr val="969696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  <p:sp>
        <p:nvSpPr>
          <p:cNvPr id="714" name=""/>
          <p:cNvSpPr/>
          <p:nvPr/>
        </p:nvSpPr>
        <p:spPr>
          <a:xfrm>
            <a:off x="5867280" y="1557360"/>
            <a:ext cx="25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1~5/  5</a:t>
            </a:r>
            <a:r>
              <a:rPr b="0" lang="ko-KR" sz="1200" spc="-1" strike="noStrike">
                <a:solidFill>
                  <a:srgbClr val="000000"/>
                </a:solidFill>
                <a:latin typeface="Arial"/>
                <a:ea typeface="HY견고딕"/>
              </a:rPr>
              <a:t>점 척도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HY견고딕"/>
              </a:rPr>
              <a:t>(n= 713-4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7" name=""/>
          <p:cNvSpPr/>
          <p:nvPr/>
        </p:nvSpPr>
        <p:spPr>
          <a:xfrm>
            <a:off x="3128760" y="476280"/>
            <a:ext cx="29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지역 유형별 연계 활동 현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9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0" name=""/>
          <p:cNvSpPr/>
          <p:nvPr/>
        </p:nvSpPr>
        <p:spPr>
          <a:xfrm>
            <a:off x="755640" y="1341360"/>
            <a:ext cx="8064360" cy="4751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밀집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가양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북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상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한라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기존자원 활용도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8.4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8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7.9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도시분산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관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광주남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능곡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중랑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국 활동 패턴과 유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활동 중 협의체 구축 활동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5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.7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농어촌형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목포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제주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포항 센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규 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80.9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71.8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율 높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아동지원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5.1%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54.2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집중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 연계 영역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10.1%/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21.3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%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비중 낮음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1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밀집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도시분산형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/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•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어촌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3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4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6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7" name=""/>
          <p:cNvSpPr/>
          <p:nvPr/>
        </p:nvSpPr>
        <p:spPr>
          <a:xfrm>
            <a:off x="560520" y="1773360"/>
            <a:ext cx="7993080" cy="4103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1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최종분석 활용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사대상자 연계자원 일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9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66.7%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3.3%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남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1.6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여성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68.4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평균 연령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34.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6.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개인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세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4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 연계자원이 속한 기관 유형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사회복지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30.8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공공기관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8.7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학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4.3%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병 의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8.8%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8" name=""/>
          <p:cNvSpPr/>
          <p:nvPr/>
        </p:nvSpPr>
        <p:spPr>
          <a:xfrm>
            <a:off x="2627280" y="98100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조사대상자 일반 현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1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"/>
          <p:cNvSpPr/>
          <p:nvPr/>
        </p:nvSpPr>
        <p:spPr>
          <a:xfrm>
            <a:off x="539640" y="1484280"/>
            <a:ext cx="8136000" cy="45356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가능하게 한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0~10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명확한 연계목표 및 명분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8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의 적극성과 역량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7.6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vs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와의 친분과 인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5.67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을 지속시키는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2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 실무자 의지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35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 능력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6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신뢰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3.21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▶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활동의 장애 요인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1~4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1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실무자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자원 연계 소극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8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연계시스템 부재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/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 과중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74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2.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조직연계자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업무과중 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3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정보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9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,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능력 부족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(2.03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점</a:t>
            </a:r>
            <a:r>
              <a:rPr b="0" lang="en-US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)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순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1" name=""/>
          <p:cNvSpPr/>
          <p:nvPr/>
        </p:nvSpPr>
        <p:spPr>
          <a:xfrm>
            <a:off x="395280" y="1557360"/>
            <a:ext cx="8497800" cy="468144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2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468360" y="2060640"/>
          <a:ext cx="8280360" cy="1836720"/>
        </p:xfrm>
        <a:graphic>
          <a:graphicData uri="http://schemas.openxmlformats.org/drawingml/2006/table">
            <a:tbl>
              <a:tblPr/>
              <a:tblGrid>
                <a:gridCol w="2427120"/>
                <a:gridCol w="381240"/>
                <a:gridCol w="2808000"/>
                <a:gridCol w="382680"/>
                <a:gridCol w="2281320"/>
              </a:tblGrid>
              <a:tr h="185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이용자에게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꼭 필요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맞춤형 서비스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폭넓은 지원망을 통한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  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지역정보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제공 과정에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질적으로 나은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의 비용효율성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은 물질로 큰 효과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lt;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결과적으로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&g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당면한 시급한 문제해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심리적 안정감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소중한 존재라는 존재감 느끼게 함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826920" y="1628640"/>
            <a:ext cx="784872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 ▶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서비스 이용자에 대한 연계활동 성과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에 대한 연계활동 성과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5" name=""/>
          <p:cNvGraphicFramePr/>
          <p:nvPr/>
        </p:nvGraphicFramePr>
        <p:xfrm>
          <a:off x="611280" y="4437000"/>
          <a:ext cx="8137080" cy="1697040"/>
        </p:xfrm>
        <a:graphic>
          <a:graphicData uri="http://schemas.openxmlformats.org/drawingml/2006/table">
            <a:tbl>
              <a:tblPr/>
              <a:tblGrid>
                <a:gridCol w="1628640"/>
                <a:gridCol w="1626120"/>
                <a:gridCol w="1627560"/>
                <a:gridCol w="1625760"/>
                <a:gridCol w="1629000"/>
              </a:tblGrid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    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개인의 만족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성취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신감이 향상 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인적 네트워크가 강화되고 대인 관계가 수월해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능력이 향상되고 지속적인 배움이 가능해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이용자의 입장에서 생각하게 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에 열려짐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6" name=""/>
          <p:cNvSpPr/>
          <p:nvPr/>
        </p:nvSpPr>
        <p:spPr>
          <a:xfrm>
            <a:off x="298764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7" name=""/>
          <p:cNvSpPr/>
          <p:nvPr/>
        </p:nvSpPr>
        <p:spPr>
          <a:xfrm>
            <a:off x="6156360" y="285264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0" name=""/>
          <p:cNvSpPr/>
          <p:nvPr/>
        </p:nvSpPr>
        <p:spPr>
          <a:xfrm>
            <a:off x="3447000" y="47628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영향 요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3" name=""/>
          <p:cNvSpPr/>
          <p:nvPr/>
        </p:nvSpPr>
        <p:spPr>
          <a:xfrm>
            <a:off x="611280" y="1197000"/>
            <a:ext cx="8136000" cy="5040360"/>
          </a:xfrm>
          <a:prstGeom prst="roundRect">
            <a:avLst>
              <a:gd name="adj" fmla="val 10889"/>
            </a:avLst>
          </a:prstGeom>
          <a:gradFill rotWithShape="0">
            <a:gsLst>
              <a:gs pos="0">
                <a:srgbClr val="dddddd"/>
              </a:gs>
              <a:gs pos="50000">
                <a:srgbClr val="f1f1f1"/>
              </a:gs>
              <a:gs pos="100000">
                <a:srgbClr val="dddddd"/>
              </a:gs>
            </a:gsLst>
            <a:lin ang="13500000"/>
          </a:gradFill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센터에 대한 연계활동의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▶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 </a:t>
            </a: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역사회에 대한 연계활동 성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4" name=""/>
          <p:cNvSpPr/>
          <p:nvPr/>
        </p:nvSpPr>
        <p:spPr>
          <a:xfrm>
            <a:off x="2627280" y="90792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연계활동 성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5" name=""/>
          <p:cNvGraphicFramePr/>
          <p:nvPr/>
        </p:nvGraphicFramePr>
        <p:xfrm>
          <a:off x="900000" y="1773360"/>
          <a:ext cx="7488360" cy="1441440"/>
        </p:xfrm>
        <a:graphic>
          <a:graphicData uri="http://schemas.openxmlformats.org/drawingml/2006/table">
            <a:tbl>
              <a:tblPr/>
              <a:tblGrid>
                <a:gridCol w="3071880"/>
                <a:gridCol w="466920"/>
                <a:gridCol w="3949560"/>
              </a:tblGrid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다양한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잠재적 자원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존 연계 기관과의 관계 긴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업무 홍보 효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관 홍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내 센터 인지도 향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 입지 확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‘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센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’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할 획득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6" name=""/>
          <p:cNvSpPr/>
          <p:nvPr/>
        </p:nvSpPr>
        <p:spPr>
          <a:xfrm>
            <a:off x="4067280" y="2276640"/>
            <a:ext cx="288720" cy="215640"/>
          </a:xfrm>
          <a:prstGeom prst="rightArrow">
            <a:avLst>
              <a:gd name="adj1" fmla="val 50000"/>
              <a:gd name="adj2" fmla="val 33472"/>
            </a:avLst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826920" y="3860640"/>
          <a:ext cx="7704360" cy="2235240"/>
        </p:xfrm>
        <a:graphic>
          <a:graphicData uri="http://schemas.openxmlformats.org/drawingml/2006/table">
            <a:tbl>
              <a:tblPr/>
              <a:tblGrid>
                <a:gridCol w="216000"/>
                <a:gridCol w="216000"/>
                <a:gridCol w="216000"/>
                <a:gridCol w="641160"/>
                <a:gridCol w="3358800"/>
                <a:gridCol w="305640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기부와 나눔의 문화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사회복지 관심 유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 상생의 관계 확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로 사는 공생 개념 확산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564480">
                <a:tc gridSpan="3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역사회 공동체 문화 확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-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우리아이라는 생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아동 복지 중요성 확산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서비스 중복과 누락 방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적절하고 효과적인 서비스 제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연스러운 네트워크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효과적인 서비스 연계망 형성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9966"/>
                    </a:solidFill>
                  </a:tcPr>
                </a:tc>
              </a:tr>
              <a:tr h="0">
                <a:tc gridSpan="5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원활한 의사소통과 자원의 소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각 사업기관별 사업수행의 이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34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9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0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1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2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3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4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들의 경험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5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6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7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8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9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0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2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3" name=""/>
          <p:cNvSpPr/>
          <p:nvPr/>
        </p:nvSpPr>
        <p:spPr>
          <a:xfrm>
            <a:off x="826920" y="1928880"/>
            <a:ext cx="77774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네트워크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혼란스로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네트워크가 무엇인가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생각의 차이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○ 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일을 통해 배워나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 이용자가 필요한 것을 찾아가면서 연계하는 사례 중심 네트워크를 만들어나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비스를 이용하는 이용자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가족모임이 네트워크 자원이 될 수 있다는 생각을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자원이 스스로 움직이고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서로서로에게 연결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퍼져나가는 경험을 통해 센터 중심의 일방적 네트워크가 아니라  자원 서로서로에게 화살표가 오가는 쌍방향 네트워크를 중요하게 생각하게 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우리 지역에서 가장 필요하고 잘할 수 있는 자신만의 네트워크를 찾아가고자 함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굴림"/>
              </a:rPr>
              <a:t>이미 자원은 지역안에 있다</a:t>
            </a:r>
            <a:r>
              <a:rPr b="0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6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8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79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0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1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"/>
          <p:cNvSpPr/>
          <p:nvPr/>
        </p:nvSpPr>
        <p:spPr>
          <a:xfrm>
            <a:off x="3815640" y="489420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"/>
          <p:cNvSpPr/>
          <p:nvPr/>
        </p:nvSpPr>
        <p:spPr>
          <a:xfrm rot="10606200">
            <a:off x="3399840" y="1772640"/>
            <a:ext cx="2122200" cy="33987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6392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"/>
          <p:cNvSpPr/>
          <p:nvPr/>
        </p:nvSpPr>
        <p:spPr>
          <a:xfrm rot="574800">
            <a:off x="1476000" y="3478320"/>
            <a:ext cx="3300480" cy="179712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0"/>
                </a:lnTo>
                <a:lnTo>
                  <a:pt x="1866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8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2" y="1286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6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7" y="1466"/>
                </a:lnTo>
                <a:lnTo>
                  <a:pt x="1647" y="1480"/>
                </a:lnTo>
                <a:lnTo>
                  <a:pt x="1583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8" y="1469"/>
                </a:lnTo>
                <a:lnTo>
                  <a:pt x="716" y="1440"/>
                </a:lnTo>
                <a:lnTo>
                  <a:pt x="648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2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5" y="286"/>
                </a:lnTo>
                <a:lnTo>
                  <a:pt x="9" y="249"/>
                </a:lnTo>
                <a:lnTo>
                  <a:pt x="4" y="220"/>
                </a:lnTo>
                <a:lnTo>
                  <a:pt x="3" y="199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5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2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a9e4f9"/>
              </a:gs>
              <a:gs pos="100000">
                <a:srgbClr val="00b1f0"/>
              </a:gs>
            </a:gsLst>
            <a:lin ang="1292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8" name=""/>
          <p:cNvSpPr/>
          <p:nvPr/>
        </p:nvSpPr>
        <p:spPr>
          <a:xfrm rot="21130800">
            <a:off x="4073400" y="3478320"/>
            <a:ext cx="3260880" cy="18381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9" name=""/>
          <p:cNvGrpSpPr/>
          <p:nvPr/>
        </p:nvGrpSpPr>
        <p:grpSpPr>
          <a:xfrm>
            <a:off x="3456000" y="4414680"/>
            <a:ext cx="1793880" cy="1584360"/>
            <a:chOff x="3456000" y="4414680"/>
            <a:chExt cx="1793880" cy="1584360"/>
          </a:xfrm>
        </p:grpSpPr>
        <p:sp>
          <p:nvSpPr>
            <p:cNvPr id="790" name=""/>
            <p:cNvSpPr/>
            <p:nvPr/>
          </p:nvSpPr>
          <p:spPr>
            <a:xfrm>
              <a:off x="3456000" y="4414680"/>
              <a:ext cx="1793880" cy="158436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3d0c00"/>
                </a:gs>
              </a:gsLst>
              <a:lin ang="5400000"/>
            </a:gradFill>
            <a:ln w="38160">
              <a:solidFill>
                <a:srgbClr val="ffffff"/>
              </a:solidFill>
              <a:miter/>
            </a:ln>
            <a:effectLst>
              <a:outerShdw dist="91658" dir="338234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60840" y="4440960"/>
              <a:ext cx="1383840" cy="59796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792" name=""/>
          <p:cNvSpPr/>
          <p:nvPr/>
        </p:nvSpPr>
        <p:spPr>
          <a:xfrm>
            <a:off x="19954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자생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"/>
          <p:cNvSpPr/>
          <p:nvPr/>
        </p:nvSpPr>
        <p:spPr>
          <a:xfrm>
            <a:off x="3897360" y="268272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사례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"/>
          <p:cNvSpPr/>
          <p:nvPr/>
        </p:nvSpPr>
        <p:spPr>
          <a:xfrm>
            <a:off x="5708880" y="371016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쌍방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Arial"/>
              </a:rPr>
              <a:t>네트워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"/>
          <p:cNvSpPr/>
          <p:nvPr/>
        </p:nvSpPr>
        <p:spPr>
          <a:xfrm>
            <a:off x="3405240" y="4995720"/>
            <a:ext cx="187020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Y견고딕"/>
                <a:ea typeface="HY견고딕"/>
              </a:rPr>
              <a:t>Hope Net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"/>
          <p:cNvSpPr/>
          <p:nvPr/>
        </p:nvSpPr>
        <p:spPr>
          <a:xfrm>
            <a:off x="5076720" y="191628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자원중심에서 사례중심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"/>
          <p:cNvSpPr/>
          <p:nvPr/>
        </p:nvSpPr>
        <p:spPr>
          <a:xfrm>
            <a:off x="5435640" y="557532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일방에서 쌍방이 오가는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8" name=""/>
          <p:cNvSpPr/>
          <p:nvPr/>
        </p:nvSpPr>
        <p:spPr>
          <a:xfrm>
            <a:off x="468360" y="5516640"/>
            <a:ext cx="3311640" cy="3070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6164df"/>
                </a:solidFill>
                <a:latin typeface="Times New Roman"/>
                <a:ea typeface="HY견고딕"/>
              </a:rPr>
              <a:t>■ </a:t>
            </a:r>
            <a:r>
              <a:rPr b="0" lang="ko-KR" sz="1400" spc="-1" strike="noStrike">
                <a:solidFill>
                  <a:srgbClr val="6164df"/>
                </a:solidFill>
                <a:latin typeface="Arial"/>
                <a:ea typeface="HY견고딕"/>
              </a:rPr>
              <a:t>공식에서 자생으로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희망네트워크 특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0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5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"/>
          <p:cNvSpPr/>
          <p:nvPr/>
        </p:nvSpPr>
        <p:spPr>
          <a:xfrm>
            <a:off x="1187280" y="1844640"/>
            <a:ext cx="698508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강점척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8/5.0=76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변화의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동기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신념체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4.0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자원획득과 활용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"/>
          <p:cNvSpPr/>
          <p:nvPr/>
        </p:nvSpPr>
        <p:spPr>
          <a:xfrm>
            <a:off x="3710520" y="476280"/>
            <a:ext cx="17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네트워크 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3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4" name=""/>
          <p:cNvSpPr/>
          <p:nvPr/>
        </p:nvSpPr>
        <p:spPr>
          <a:xfrm>
            <a:off x="1476360" y="2349360"/>
            <a:ext cx="57420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"/>
          <p:cNvSpPr/>
          <p:nvPr/>
        </p:nvSpPr>
        <p:spPr>
          <a:xfrm>
            <a:off x="539640" y="1557360"/>
            <a:ext cx="8136000" cy="4535640"/>
          </a:xfrm>
          <a:prstGeom prst="roundRect">
            <a:avLst>
              <a:gd name="adj" fmla="val 10889"/>
            </a:avLst>
          </a:prstGeom>
          <a:noFill/>
          <a:ln w="38160">
            <a:solidFill>
              <a:srgbClr val="ffffff"/>
            </a:solidFill>
            <a:miter/>
          </a:ln>
          <a:effectLst>
            <a:outerShdw dist="134955" dir="292711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8ecde"/>
                </a:solidFill>
                <a:latin typeface="Verdana"/>
              </a:rPr>
              <a:t>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"/>
          <p:cNvSpPr/>
          <p:nvPr/>
        </p:nvSpPr>
        <p:spPr>
          <a:xfrm>
            <a:off x="2627280" y="1052640"/>
            <a:ext cx="4572000" cy="3682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1800" spc="-1" strike="noStrike">
                <a:solidFill>
                  <a:srgbClr val="000000"/>
                </a:solidFill>
                <a:latin typeface="Arial"/>
                <a:ea typeface="HY견고딕"/>
              </a:rPr>
              <a:t>실무자와 연계자원이 인식한 지역사회 아동복지 네트워크 수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"/>
          <p:cNvSpPr/>
          <p:nvPr/>
        </p:nvSpPr>
        <p:spPr>
          <a:xfrm>
            <a:off x="7308720" y="2205000"/>
            <a:ext cx="3589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"/>
          <p:cNvSpPr/>
          <p:nvPr/>
        </p:nvSpPr>
        <p:spPr>
          <a:xfrm>
            <a:off x="7451640" y="2205000"/>
            <a:ext cx="1447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"/>
          <p:cNvSpPr/>
          <p:nvPr/>
        </p:nvSpPr>
        <p:spPr>
          <a:xfrm>
            <a:off x="1042920" y="3429000"/>
            <a:ext cx="2232000" cy="2016000"/>
          </a:xfrm>
          <a:prstGeom prst="ellipse">
            <a:avLst/>
          </a:prstGeom>
          <a:noFill/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자생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0" name=""/>
          <p:cNvSpPr/>
          <p:nvPr/>
        </p:nvSpPr>
        <p:spPr>
          <a:xfrm>
            <a:off x="2674440" y="472608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자생적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"/>
          <p:cNvSpPr/>
          <p:nvPr/>
        </p:nvSpPr>
        <p:spPr>
          <a:xfrm>
            <a:off x="5492160" y="47149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쌍방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"/>
          <p:cNvSpPr/>
          <p:nvPr/>
        </p:nvSpPr>
        <p:spPr>
          <a:xfrm>
            <a:off x="4986360" y="2916360"/>
            <a:ext cx="1019160" cy="995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"/>
          <p:cNvSpPr/>
          <p:nvPr/>
        </p:nvSpPr>
        <p:spPr>
          <a:xfrm flipH="1">
            <a:off x="2495520" y="4170240"/>
            <a:ext cx="642960" cy="468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"/>
          <p:cNvSpPr/>
          <p:nvPr/>
        </p:nvSpPr>
        <p:spPr>
          <a:xfrm>
            <a:off x="3957120" y="322272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사례중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Arial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5" name=""/>
          <p:cNvSpPr/>
          <p:nvPr/>
        </p:nvSpPr>
        <p:spPr>
          <a:xfrm>
            <a:off x="826920" y="1928880"/>
            <a:ext cx="777744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"/>
          <p:cNvGraphicFramePr/>
          <p:nvPr/>
        </p:nvGraphicFramePr>
        <p:xfrm>
          <a:off x="1116000" y="1844640"/>
          <a:ext cx="7201080" cy="4160880"/>
        </p:xfrm>
        <a:graphic>
          <a:graphicData uri="http://schemas.openxmlformats.org/drawingml/2006/table">
            <a:tbl>
              <a:tblPr/>
              <a:tblGrid>
                <a:gridCol w="1717560"/>
                <a:gridCol w="1144800"/>
                <a:gridCol w="1338120"/>
                <a:gridCol w="1274760"/>
                <a:gridCol w="1725840"/>
              </a:tblGrid>
              <a:tr h="509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 </a:t>
                      </a: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구 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3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(n=12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상적인 지역사회 아동복지 네트워크 수준을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00%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이라고 했을 때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귀하가 속한 지역사회 아동복지 네트워크 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%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 – 5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6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60 – 6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0 – 7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6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80 – 8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90 – 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8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1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실무자가 생각한 지역사회 아동복지 네트워크 수준   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50.88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20.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50000"/>
                        </a:lnSpc>
                        <a:spcBef>
                          <a:spcPts val="300"/>
                        </a:spcBef>
                        <a:buClr>
                          <a:srgbClr val="ffcc66"/>
                        </a:buClr>
                        <a:buSzPct val="80000"/>
                        <a:buFont typeface="굴림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연계자원이 생각한 지역사회 아동복지 네트워크 수준             평균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74.99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표준편차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17.7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"/>
          <p:cNvGrpSpPr/>
          <p:nvPr/>
        </p:nvGrpSpPr>
        <p:grpSpPr>
          <a:xfrm>
            <a:off x="5003640" y="3284640"/>
            <a:ext cx="2923560" cy="2607840"/>
            <a:chOff x="5003640" y="3284640"/>
            <a:chExt cx="2923560" cy="2607840"/>
          </a:xfrm>
        </p:grpSpPr>
        <p:sp>
          <p:nvSpPr>
            <p:cNvPr id="818" name=""/>
            <p:cNvSpPr/>
            <p:nvPr/>
          </p:nvSpPr>
          <p:spPr>
            <a:xfrm>
              <a:off x="5998680" y="3284640"/>
              <a:ext cx="900360" cy="133668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4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4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39"/>
                  </a:lnTo>
                  <a:lnTo>
                    <a:pt x="835" y="2266"/>
                  </a:lnTo>
                  <a:lnTo>
                    <a:pt x="806" y="2290"/>
                  </a:lnTo>
                  <a:lnTo>
                    <a:pt x="783" y="2309"/>
                  </a:lnTo>
                  <a:lnTo>
                    <a:pt x="763" y="2325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5"/>
                  </a:lnTo>
                  <a:lnTo>
                    <a:pt x="688" y="2309"/>
                  </a:lnTo>
                  <a:lnTo>
                    <a:pt x="665" y="2290"/>
                  </a:lnTo>
                  <a:lnTo>
                    <a:pt x="636" y="2266"/>
                  </a:lnTo>
                  <a:lnTo>
                    <a:pt x="604" y="2239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4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4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8"/>
                  </a:lnTo>
                  <a:lnTo>
                    <a:pt x="13" y="1025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5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4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0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0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4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5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5"/>
                  </a:lnTo>
                  <a:lnTo>
                    <a:pt x="1467" y="1098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53b749"/>
                </a:gs>
                <a:gs pos="100000">
                  <a:srgbClr val="c4e6c1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"/>
            <p:cNvSpPr/>
            <p:nvPr/>
          </p:nvSpPr>
          <p:spPr>
            <a:xfrm rot="574800">
              <a:off x="5055480" y="3897720"/>
              <a:ext cx="1562040" cy="73836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0"/>
                  </a:lnTo>
                  <a:lnTo>
                    <a:pt x="1866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8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2" y="1286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6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7" y="1466"/>
                  </a:lnTo>
                  <a:lnTo>
                    <a:pt x="1647" y="1480"/>
                  </a:lnTo>
                  <a:lnTo>
                    <a:pt x="1583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8" y="1469"/>
                  </a:lnTo>
                  <a:lnTo>
                    <a:pt x="716" y="1440"/>
                  </a:lnTo>
                  <a:lnTo>
                    <a:pt x="648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2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5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199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5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2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a9e4f9"/>
                </a:gs>
                <a:gs pos="100000">
                  <a:srgbClr val="00b1f0"/>
                </a:gs>
              </a:gsLst>
              <a:lin ang="12924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"/>
            <p:cNvSpPr/>
            <p:nvPr/>
          </p:nvSpPr>
          <p:spPr>
            <a:xfrm rot="21118800">
              <a:off x="5051520" y="4615920"/>
              <a:ext cx="1571760" cy="73980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8" y="131"/>
                  </a:moveTo>
                  <a:lnTo>
                    <a:pt x="717" y="96"/>
                  </a:lnTo>
                  <a:lnTo>
                    <a:pt x="788" y="67"/>
                  </a:lnTo>
                  <a:lnTo>
                    <a:pt x="860" y="43"/>
                  </a:lnTo>
                  <a:lnTo>
                    <a:pt x="934" y="24"/>
                  </a:lnTo>
                  <a:lnTo>
                    <a:pt x="1008" y="11"/>
                  </a:lnTo>
                  <a:lnTo>
                    <a:pt x="1083" y="4"/>
                  </a:lnTo>
                  <a:lnTo>
                    <a:pt x="1157" y="0"/>
                  </a:lnTo>
                  <a:lnTo>
                    <a:pt x="1232" y="0"/>
                  </a:lnTo>
                  <a:lnTo>
                    <a:pt x="1306" y="3"/>
                  </a:lnTo>
                  <a:lnTo>
                    <a:pt x="1377" y="8"/>
                  </a:lnTo>
                  <a:lnTo>
                    <a:pt x="1449" y="17"/>
                  </a:lnTo>
                  <a:lnTo>
                    <a:pt x="1517" y="29"/>
                  </a:lnTo>
                  <a:lnTo>
                    <a:pt x="1583" y="42"/>
                  </a:lnTo>
                  <a:lnTo>
                    <a:pt x="1647" y="55"/>
                  </a:lnTo>
                  <a:lnTo>
                    <a:pt x="1707" y="70"/>
                  </a:lnTo>
                  <a:lnTo>
                    <a:pt x="1762" y="86"/>
                  </a:lnTo>
                  <a:lnTo>
                    <a:pt x="1815" y="102"/>
                  </a:lnTo>
                  <a:lnTo>
                    <a:pt x="1862" y="116"/>
                  </a:lnTo>
                  <a:lnTo>
                    <a:pt x="1905" y="131"/>
                  </a:lnTo>
                  <a:lnTo>
                    <a:pt x="1942" y="146"/>
                  </a:lnTo>
                  <a:lnTo>
                    <a:pt x="1972" y="157"/>
                  </a:lnTo>
                  <a:lnTo>
                    <a:pt x="1999" y="167"/>
                  </a:lnTo>
                  <a:lnTo>
                    <a:pt x="2016" y="175"/>
                  </a:lnTo>
                  <a:lnTo>
                    <a:pt x="2028" y="179"/>
                  </a:lnTo>
                  <a:lnTo>
                    <a:pt x="2032" y="182"/>
                  </a:lnTo>
                  <a:lnTo>
                    <a:pt x="2031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2" y="249"/>
                  </a:lnTo>
                  <a:lnTo>
                    <a:pt x="2018" y="286"/>
                  </a:lnTo>
                  <a:lnTo>
                    <a:pt x="2009" y="326"/>
                  </a:lnTo>
                  <a:lnTo>
                    <a:pt x="2000" y="375"/>
                  </a:lnTo>
                  <a:lnTo>
                    <a:pt x="1989" y="427"/>
                  </a:lnTo>
                  <a:lnTo>
                    <a:pt x="1975" y="483"/>
                  </a:lnTo>
                  <a:lnTo>
                    <a:pt x="1958" y="542"/>
                  </a:lnTo>
                  <a:lnTo>
                    <a:pt x="1940" y="607"/>
                  </a:lnTo>
                  <a:lnTo>
                    <a:pt x="1919" y="672"/>
                  </a:lnTo>
                  <a:lnTo>
                    <a:pt x="1894" y="738"/>
                  </a:lnTo>
                  <a:lnTo>
                    <a:pt x="1866" y="806"/>
                  </a:lnTo>
                  <a:lnTo>
                    <a:pt x="1835" y="875"/>
                  </a:lnTo>
                  <a:lnTo>
                    <a:pt x="1802" y="944"/>
                  </a:lnTo>
                  <a:lnTo>
                    <a:pt x="1764" y="1011"/>
                  </a:lnTo>
                  <a:lnTo>
                    <a:pt x="1722" y="1076"/>
                  </a:lnTo>
                  <a:lnTo>
                    <a:pt x="1676" y="1141"/>
                  </a:lnTo>
                  <a:lnTo>
                    <a:pt x="1627" y="1202"/>
                  </a:lnTo>
                  <a:lnTo>
                    <a:pt x="1573" y="1259"/>
                  </a:lnTo>
                  <a:lnTo>
                    <a:pt x="1514" y="1313"/>
                  </a:lnTo>
                  <a:lnTo>
                    <a:pt x="1452" y="1361"/>
                  </a:lnTo>
                  <a:lnTo>
                    <a:pt x="1383" y="1405"/>
                  </a:lnTo>
                  <a:lnTo>
                    <a:pt x="1315" y="1440"/>
                  </a:lnTo>
                  <a:lnTo>
                    <a:pt x="1245" y="1469"/>
                  </a:lnTo>
                  <a:lnTo>
                    <a:pt x="1173" y="1494"/>
                  </a:lnTo>
                  <a:lnTo>
                    <a:pt x="1099" y="1511"/>
                  </a:lnTo>
                  <a:lnTo>
                    <a:pt x="1024" y="1524"/>
                  </a:lnTo>
                  <a:lnTo>
                    <a:pt x="950" y="1532"/>
                  </a:lnTo>
                  <a:lnTo>
                    <a:pt x="876" y="1536"/>
                  </a:lnTo>
                  <a:lnTo>
                    <a:pt x="801" y="1536"/>
                  </a:lnTo>
                  <a:lnTo>
                    <a:pt x="727" y="1533"/>
                  </a:lnTo>
                  <a:lnTo>
                    <a:pt x="654" y="1527"/>
                  </a:lnTo>
                  <a:lnTo>
                    <a:pt x="584" y="1518"/>
                  </a:lnTo>
                  <a:lnTo>
                    <a:pt x="515" y="1507"/>
                  </a:lnTo>
                  <a:lnTo>
                    <a:pt x="450" y="1495"/>
                  </a:lnTo>
                  <a:lnTo>
                    <a:pt x="385" y="1481"/>
                  </a:lnTo>
                  <a:lnTo>
                    <a:pt x="326" y="1466"/>
                  </a:lnTo>
                  <a:lnTo>
                    <a:pt x="270" y="1450"/>
                  </a:lnTo>
                  <a:lnTo>
                    <a:pt x="218" y="1434"/>
                  </a:lnTo>
                  <a:lnTo>
                    <a:pt x="170" y="1419"/>
                  </a:lnTo>
                  <a:lnTo>
                    <a:pt x="127" y="1405"/>
                  </a:lnTo>
                  <a:lnTo>
                    <a:pt x="91" y="1390"/>
                  </a:lnTo>
                  <a:lnTo>
                    <a:pt x="59" y="1378"/>
                  </a:lnTo>
                  <a:lnTo>
                    <a:pt x="34" y="1368"/>
                  </a:lnTo>
                  <a:lnTo>
                    <a:pt x="16" y="1361"/>
                  </a:lnTo>
                  <a:lnTo>
                    <a:pt x="5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5" y="1316"/>
                  </a:lnTo>
                  <a:lnTo>
                    <a:pt x="9" y="1287"/>
                  </a:lnTo>
                  <a:lnTo>
                    <a:pt x="15" y="1250"/>
                  </a:lnTo>
                  <a:lnTo>
                    <a:pt x="22" y="1209"/>
                  </a:lnTo>
                  <a:lnTo>
                    <a:pt x="33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9" y="798"/>
                  </a:lnTo>
                  <a:lnTo>
                    <a:pt x="167" y="729"/>
                  </a:lnTo>
                  <a:lnTo>
                    <a:pt x="197" y="661"/>
                  </a:lnTo>
                  <a:lnTo>
                    <a:pt x="231" y="592"/>
                  </a:lnTo>
                  <a:lnTo>
                    <a:pt x="269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6" y="334"/>
                  </a:lnTo>
                  <a:lnTo>
                    <a:pt x="460" y="277"/>
                  </a:lnTo>
                  <a:lnTo>
                    <a:pt x="518" y="223"/>
                  </a:lnTo>
                  <a:lnTo>
                    <a:pt x="581" y="175"/>
                  </a:lnTo>
                  <a:lnTo>
                    <a:pt x="648" y="131"/>
                  </a:lnTo>
                </a:path>
              </a:pathLst>
            </a:custGeom>
            <a:gradFill rotWithShape="0">
              <a:gsLst>
                <a:gs pos="0">
                  <a:srgbClr val="e7c9ec"/>
                </a:gs>
                <a:gs pos="100000">
                  <a:srgbClr val="bc61cb"/>
                </a:gs>
              </a:gsLst>
              <a:lin ang="1128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998680" y="4599720"/>
              <a:ext cx="857160" cy="1292760"/>
            </a:xfrm>
            <a:custGeom>
              <a:avLst/>
              <a:gdLst/>
              <a:ahLst/>
              <a:rect l="l" t="t" r="r" b="b"/>
              <a:pathLst>
                <a:path w="1470" h="2346">
                  <a:moveTo>
                    <a:pt x="1470" y="1173"/>
                  </a:moveTo>
                  <a:lnTo>
                    <a:pt x="1467" y="1246"/>
                  </a:lnTo>
                  <a:lnTo>
                    <a:pt x="1458" y="1319"/>
                  </a:lnTo>
                  <a:lnTo>
                    <a:pt x="1444" y="1390"/>
                  </a:lnTo>
                  <a:lnTo>
                    <a:pt x="1423" y="1462"/>
                  </a:lnTo>
                  <a:lnTo>
                    <a:pt x="1400" y="1529"/>
                  </a:lnTo>
                  <a:lnTo>
                    <a:pt x="1371" y="1596"/>
                  </a:lnTo>
                  <a:lnTo>
                    <a:pt x="1339" y="1662"/>
                  </a:lnTo>
                  <a:lnTo>
                    <a:pt x="1305" y="1725"/>
                  </a:lnTo>
                  <a:lnTo>
                    <a:pt x="1267" y="1784"/>
                  </a:lnTo>
                  <a:lnTo>
                    <a:pt x="1228" y="1843"/>
                  </a:lnTo>
                  <a:lnTo>
                    <a:pt x="1187" y="1898"/>
                  </a:lnTo>
                  <a:lnTo>
                    <a:pt x="1145" y="1952"/>
                  </a:lnTo>
                  <a:lnTo>
                    <a:pt x="1102" y="2002"/>
                  </a:lnTo>
                  <a:lnTo>
                    <a:pt x="1060" y="2050"/>
                  </a:lnTo>
                  <a:lnTo>
                    <a:pt x="1019" y="2094"/>
                  </a:lnTo>
                  <a:lnTo>
                    <a:pt x="978" y="2135"/>
                  </a:lnTo>
                  <a:lnTo>
                    <a:pt x="939" y="2174"/>
                  </a:lnTo>
                  <a:lnTo>
                    <a:pt x="901" y="2207"/>
                  </a:lnTo>
                  <a:lnTo>
                    <a:pt x="866" y="2240"/>
                  </a:lnTo>
                  <a:lnTo>
                    <a:pt x="835" y="2266"/>
                  </a:lnTo>
                  <a:lnTo>
                    <a:pt x="806" y="2291"/>
                  </a:lnTo>
                  <a:lnTo>
                    <a:pt x="783" y="2310"/>
                  </a:lnTo>
                  <a:lnTo>
                    <a:pt x="763" y="2326"/>
                  </a:lnTo>
                  <a:lnTo>
                    <a:pt x="748" y="2336"/>
                  </a:lnTo>
                  <a:lnTo>
                    <a:pt x="739" y="2343"/>
                  </a:lnTo>
                  <a:lnTo>
                    <a:pt x="735" y="2346"/>
                  </a:lnTo>
                  <a:lnTo>
                    <a:pt x="732" y="2343"/>
                  </a:lnTo>
                  <a:lnTo>
                    <a:pt x="723" y="2336"/>
                  </a:lnTo>
                  <a:lnTo>
                    <a:pt x="709" y="2326"/>
                  </a:lnTo>
                  <a:lnTo>
                    <a:pt x="688" y="2310"/>
                  </a:lnTo>
                  <a:lnTo>
                    <a:pt x="665" y="2291"/>
                  </a:lnTo>
                  <a:lnTo>
                    <a:pt x="636" y="2266"/>
                  </a:lnTo>
                  <a:lnTo>
                    <a:pt x="604" y="2240"/>
                  </a:lnTo>
                  <a:lnTo>
                    <a:pt x="570" y="2207"/>
                  </a:lnTo>
                  <a:lnTo>
                    <a:pt x="532" y="2174"/>
                  </a:lnTo>
                  <a:lnTo>
                    <a:pt x="493" y="2135"/>
                  </a:lnTo>
                  <a:lnTo>
                    <a:pt x="452" y="2094"/>
                  </a:lnTo>
                  <a:lnTo>
                    <a:pt x="410" y="2050"/>
                  </a:lnTo>
                  <a:lnTo>
                    <a:pt x="367" y="2002"/>
                  </a:lnTo>
                  <a:lnTo>
                    <a:pt x="325" y="1952"/>
                  </a:lnTo>
                  <a:lnTo>
                    <a:pt x="284" y="1898"/>
                  </a:lnTo>
                  <a:lnTo>
                    <a:pt x="243" y="1843"/>
                  </a:lnTo>
                  <a:lnTo>
                    <a:pt x="204" y="1784"/>
                  </a:lnTo>
                  <a:lnTo>
                    <a:pt x="166" y="1725"/>
                  </a:lnTo>
                  <a:lnTo>
                    <a:pt x="131" y="1662"/>
                  </a:lnTo>
                  <a:lnTo>
                    <a:pt x="100" y="1596"/>
                  </a:lnTo>
                  <a:lnTo>
                    <a:pt x="71" y="1529"/>
                  </a:lnTo>
                  <a:lnTo>
                    <a:pt x="48" y="1462"/>
                  </a:lnTo>
                  <a:lnTo>
                    <a:pt x="27" y="1390"/>
                  </a:lnTo>
                  <a:lnTo>
                    <a:pt x="13" y="1319"/>
                  </a:lnTo>
                  <a:lnTo>
                    <a:pt x="4" y="1246"/>
                  </a:lnTo>
                  <a:lnTo>
                    <a:pt x="0" y="1173"/>
                  </a:lnTo>
                  <a:lnTo>
                    <a:pt x="4" y="1099"/>
                  </a:lnTo>
                  <a:lnTo>
                    <a:pt x="13" y="1026"/>
                  </a:lnTo>
                  <a:lnTo>
                    <a:pt x="27" y="954"/>
                  </a:lnTo>
                  <a:lnTo>
                    <a:pt x="48" y="884"/>
                  </a:lnTo>
                  <a:lnTo>
                    <a:pt x="71" y="816"/>
                  </a:lnTo>
                  <a:lnTo>
                    <a:pt x="100" y="748"/>
                  </a:lnTo>
                  <a:lnTo>
                    <a:pt x="131" y="684"/>
                  </a:lnTo>
                  <a:lnTo>
                    <a:pt x="166" y="621"/>
                  </a:lnTo>
                  <a:lnTo>
                    <a:pt x="204" y="560"/>
                  </a:lnTo>
                  <a:lnTo>
                    <a:pt x="243" y="502"/>
                  </a:lnTo>
                  <a:lnTo>
                    <a:pt x="284" y="446"/>
                  </a:lnTo>
                  <a:lnTo>
                    <a:pt x="325" y="394"/>
                  </a:lnTo>
                  <a:lnTo>
                    <a:pt x="367" y="343"/>
                  </a:lnTo>
                  <a:lnTo>
                    <a:pt x="410" y="295"/>
                  </a:lnTo>
                  <a:lnTo>
                    <a:pt x="452" y="251"/>
                  </a:lnTo>
                  <a:lnTo>
                    <a:pt x="493" y="210"/>
                  </a:lnTo>
                  <a:lnTo>
                    <a:pt x="532" y="171"/>
                  </a:lnTo>
                  <a:lnTo>
                    <a:pt x="570" y="137"/>
                  </a:lnTo>
                  <a:lnTo>
                    <a:pt x="604" y="105"/>
                  </a:lnTo>
                  <a:lnTo>
                    <a:pt x="636" y="79"/>
                  </a:lnTo>
                  <a:lnTo>
                    <a:pt x="665" y="55"/>
                  </a:lnTo>
                  <a:lnTo>
                    <a:pt x="688" y="35"/>
                  </a:lnTo>
                  <a:lnTo>
                    <a:pt x="709" y="19"/>
                  </a:lnTo>
                  <a:lnTo>
                    <a:pt x="723" y="9"/>
                  </a:lnTo>
                  <a:lnTo>
                    <a:pt x="732" y="1"/>
                  </a:lnTo>
                  <a:lnTo>
                    <a:pt x="735" y="0"/>
                  </a:lnTo>
                  <a:lnTo>
                    <a:pt x="739" y="1"/>
                  </a:lnTo>
                  <a:lnTo>
                    <a:pt x="748" y="9"/>
                  </a:lnTo>
                  <a:lnTo>
                    <a:pt x="763" y="19"/>
                  </a:lnTo>
                  <a:lnTo>
                    <a:pt x="783" y="35"/>
                  </a:lnTo>
                  <a:lnTo>
                    <a:pt x="806" y="55"/>
                  </a:lnTo>
                  <a:lnTo>
                    <a:pt x="835" y="79"/>
                  </a:lnTo>
                  <a:lnTo>
                    <a:pt x="866" y="105"/>
                  </a:lnTo>
                  <a:lnTo>
                    <a:pt x="901" y="137"/>
                  </a:lnTo>
                  <a:lnTo>
                    <a:pt x="939" y="171"/>
                  </a:lnTo>
                  <a:lnTo>
                    <a:pt x="978" y="210"/>
                  </a:lnTo>
                  <a:lnTo>
                    <a:pt x="1019" y="251"/>
                  </a:lnTo>
                  <a:lnTo>
                    <a:pt x="1060" y="295"/>
                  </a:lnTo>
                  <a:lnTo>
                    <a:pt x="1102" y="343"/>
                  </a:lnTo>
                  <a:lnTo>
                    <a:pt x="1145" y="394"/>
                  </a:lnTo>
                  <a:lnTo>
                    <a:pt x="1187" y="446"/>
                  </a:lnTo>
                  <a:lnTo>
                    <a:pt x="1228" y="502"/>
                  </a:lnTo>
                  <a:lnTo>
                    <a:pt x="1267" y="560"/>
                  </a:lnTo>
                  <a:lnTo>
                    <a:pt x="1305" y="621"/>
                  </a:lnTo>
                  <a:lnTo>
                    <a:pt x="1339" y="684"/>
                  </a:lnTo>
                  <a:lnTo>
                    <a:pt x="1371" y="748"/>
                  </a:lnTo>
                  <a:lnTo>
                    <a:pt x="1400" y="816"/>
                  </a:lnTo>
                  <a:lnTo>
                    <a:pt x="1423" y="884"/>
                  </a:lnTo>
                  <a:lnTo>
                    <a:pt x="1444" y="954"/>
                  </a:lnTo>
                  <a:lnTo>
                    <a:pt x="1458" y="1026"/>
                  </a:lnTo>
                  <a:lnTo>
                    <a:pt x="1467" y="1099"/>
                  </a:lnTo>
                  <a:lnTo>
                    <a:pt x="1470" y="1173"/>
                  </a:lnTo>
                </a:path>
              </a:pathLst>
            </a:custGeom>
            <a:gradFill rotWithShape="0">
              <a:gsLst>
                <a:gs pos="0">
                  <a:srgbClr val="fea9cb"/>
                </a:gs>
                <a:gs pos="100000">
                  <a:srgbClr val="ff0066"/>
                </a:gs>
              </a:gsLst>
              <a:lin ang="54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"/>
            <p:cNvSpPr/>
            <p:nvPr/>
          </p:nvSpPr>
          <p:spPr>
            <a:xfrm rot="521400">
              <a:off x="6295320" y="4659480"/>
              <a:ext cx="1500480" cy="69012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1383" y="131"/>
                  </a:moveTo>
                  <a:lnTo>
                    <a:pt x="1451" y="175"/>
                  </a:lnTo>
                  <a:lnTo>
                    <a:pt x="1514" y="223"/>
                  </a:lnTo>
                  <a:lnTo>
                    <a:pt x="1572" y="277"/>
                  </a:lnTo>
                  <a:lnTo>
                    <a:pt x="1626" y="334"/>
                  </a:lnTo>
                  <a:lnTo>
                    <a:pt x="1676" y="395"/>
                  </a:lnTo>
                  <a:lnTo>
                    <a:pt x="1721" y="459"/>
                  </a:lnTo>
                  <a:lnTo>
                    <a:pt x="1763" y="525"/>
                  </a:lnTo>
                  <a:lnTo>
                    <a:pt x="1801" y="592"/>
                  </a:lnTo>
                  <a:lnTo>
                    <a:pt x="1835" y="661"/>
                  </a:lnTo>
                  <a:lnTo>
                    <a:pt x="1865" y="729"/>
                  </a:lnTo>
                  <a:lnTo>
                    <a:pt x="1893" y="798"/>
                  </a:lnTo>
                  <a:lnTo>
                    <a:pt x="1918" y="865"/>
                  </a:lnTo>
                  <a:lnTo>
                    <a:pt x="1940" y="929"/>
                  </a:lnTo>
                  <a:lnTo>
                    <a:pt x="1957" y="993"/>
                  </a:lnTo>
                  <a:lnTo>
                    <a:pt x="1975" y="1053"/>
                  </a:lnTo>
                  <a:lnTo>
                    <a:pt x="1988" y="1109"/>
                  </a:lnTo>
                  <a:lnTo>
                    <a:pt x="2000" y="1161"/>
                  </a:lnTo>
                  <a:lnTo>
                    <a:pt x="2008" y="1209"/>
                  </a:lnTo>
                  <a:lnTo>
                    <a:pt x="2017" y="1250"/>
                  </a:lnTo>
                  <a:lnTo>
                    <a:pt x="2021" y="1287"/>
                  </a:lnTo>
                  <a:lnTo>
                    <a:pt x="2026" y="1316"/>
                  </a:lnTo>
                  <a:lnTo>
                    <a:pt x="2029" y="1336"/>
                  </a:lnTo>
                  <a:lnTo>
                    <a:pt x="2030" y="1349"/>
                  </a:lnTo>
                  <a:lnTo>
                    <a:pt x="2032" y="1355"/>
                  </a:lnTo>
                  <a:lnTo>
                    <a:pt x="2027" y="1357"/>
                  </a:lnTo>
                  <a:lnTo>
                    <a:pt x="2016" y="1361"/>
                  </a:lnTo>
                  <a:lnTo>
                    <a:pt x="1998" y="1368"/>
                  </a:lnTo>
                  <a:lnTo>
                    <a:pt x="1972" y="1378"/>
                  </a:lnTo>
                  <a:lnTo>
                    <a:pt x="1941" y="1390"/>
                  </a:lnTo>
                  <a:lnTo>
                    <a:pt x="1905" y="1405"/>
                  </a:lnTo>
                  <a:lnTo>
                    <a:pt x="1861" y="1419"/>
                  </a:lnTo>
                  <a:lnTo>
                    <a:pt x="1814" y="1434"/>
                  </a:lnTo>
                  <a:lnTo>
                    <a:pt x="1762" y="1450"/>
                  </a:lnTo>
                  <a:lnTo>
                    <a:pt x="1706" y="1466"/>
                  </a:lnTo>
                  <a:lnTo>
                    <a:pt x="1647" y="1481"/>
                  </a:lnTo>
                  <a:lnTo>
                    <a:pt x="1582" y="1495"/>
                  </a:lnTo>
                  <a:lnTo>
                    <a:pt x="1517" y="1507"/>
                  </a:lnTo>
                  <a:lnTo>
                    <a:pt x="1448" y="1518"/>
                  </a:lnTo>
                  <a:lnTo>
                    <a:pt x="1377" y="1527"/>
                  </a:lnTo>
                  <a:lnTo>
                    <a:pt x="1305" y="1533"/>
                  </a:lnTo>
                  <a:lnTo>
                    <a:pt x="1231" y="1536"/>
                  </a:lnTo>
                  <a:lnTo>
                    <a:pt x="1157" y="1536"/>
                  </a:lnTo>
                  <a:lnTo>
                    <a:pt x="1082" y="1532"/>
                  </a:lnTo>
                  <a:lnTo>
                    <a:pt x="1008" y="1524"/>
                  </a:lnTo>
                  <a:lnTo>
                    <a:pt x="933" y="1511"/>
                  </a:lnTo>
                  <a:lnTo>
                    <a:pt x="859" y="1494"/>
                  </a:lnTo>
                  <a:lnTo>
                    <a:pt x="787" y="1469"/>
                  </a:lnTo>
                  <a:lnTo>
                    <a:pt x="716" y="1440"/>
                  </a:lnTo>
                  <a:lnTo>
                    <a:pt x="647" y="1405"/>
                  </a:lnTo>
                  <a:lnTo>
                    <a:pt x="580" y="1361"/>
                  </a:lnTo>
                  <a:lnTo>
                    <a:pt x="518" y="1313"/>
                  </a:lnTo>
                  <a:lnTo>
                    <a:pt x="459" y="1259"/>
                  </a:lnTo>
                  <a:lnTo>
                    <a:pt x="405" y="1202"/>
                  </a:lnTo>
                  <a:lnTo>
                    <a:pt x="356" y="1141"/>
                  </a:lnTo>
                  <a:lnTo>
                    <a:pt x="311" y="1076"/>
                  </a:lnTo>
                  <a:lnTo>
                    <a:pt x="268" y="1011"/>
                  </a:lnTo>
                  <a:lnTo>
                    <a:pt x="230" y="944"/>
                  </a:lnTo>
                  <a:lnTo>
                    <a:pt x="197" y="875"/>
                  </a:lnTo>
                  <a:lnTo>
                    <a:pt x="166" y="806"/>
                  </a:lnTo>
                  <a:lnTo>
                    <a:pt x="138" y="738"/>
                  </a:lnTo>
                  <a:lnTo>
                    <a:pt x="114" y="672"/>
                  </a:lnTo>
                  <a:lnTo>
                    <a:pt x="92" y="607"/>
                  </a:lnTo>
                  <a:lnTo>
                    <a:pt x="73" y="542"/>
                  </a:lnTo>
                  <a:lnTo>
                    <a:pt x="57" y="483"/>
                  </a:lnTo>
                  <a:lnTo>
                    <a:pt x="44" y="427"/>
                  </a:lnTo>
                  <a:lnTo>
                    <a:pt x="32" y="375"/>
                  </a:lnTo>
                  <a:lnTo>
                    <a:pt x="22" y="326"/>
                  </a:lnTo>
                  <a:lnTo>
                    <a:pt x="14" y="286"/>
                  </a:lnTo>
                  <a:lnTo>
                    <a:pt x="9" y="249"/>
                  </a:lnTo>
                  <a:lnTo>
                    <a:pt x="4" y="220"/>
                  </a:lnTo>
                  <a:lnTo>
                    <a:pt x="3" y="200"/>
                  </a:lnTo>
                  <a:lnTo>
                    <a:pt x="0" y="186"/>
                  </a:lnTo>
                  <a:lnTo>
                    <a:pt x="0" y="182"/>
                  </a:lnTo>
                  <a:lnTo>
                    <a:pt x="4" y="179"/>
                  </a:lnTo>
                  <a:lnTo>
                    <a:pt x="16" y="175"/>
                  </a:lnTo>
                  <a:lnTo>
                    <a:pt x="33" y="167"/>
                  </a:lnTo>
                  <a:lnTo>
                    <a:pt x="58" y="157"/>
                  </a:lnTo>
                  <a:lnTo>
                    <a:pt x="90" y="146"/>
                  </a:lnTo>
                  <a:lnTo>
                    <a:pt x="127" y="131"/>
                  </a:lnTo>
                  <a:lnTo>
                    <a:pt x="169" y="116"/>
                  </a:lnTo>
                  <a:lnTo>
                    <a:pt x="217" y="102"/>
                  </a:lnTo>
                  <a:lnTo>
                    <a:pt x="270" y="86"/>
                  </a:lnTo>
                  <a:lnTo>
                    <a:pt x="325" y="70"/>
                  </a:lnTo>
                  <a:lnTo>
                    <a:pt x="385" y="55"/>
                  </a:lnTo>
                  <a:lnTo>
                    <a:pt x="449" y="42"/>
                  </a:lnTo>
                  <a:lnTo>
                    <a:pt x="515" y="29"/>
                  </a:lnTo>
                  <a:lnTo>
                    <a:pt x="583" y="17"/>
                  </a:lnTo>
                  <a:lnTo>
                    <a:pt x="653" y="8"/>
                  </a:lnTo>
                  <a:lnTo>
                    <a:pt x="726" y="3"/>
                  </a:lnTo>
                  <a:lnTo>
                    <a:pt x="801" y="0"/>
                  </a:lnTo>
                  <a:lnTo>
                    <a:pt x="875" y="0"/>
                  </a:lnTo>
                  <a:lnTo>
                    <a:pt x="949" y="4"/>
                  </a:lnTo>
                  <a:lnTo>
                    <a:pt x="1024" y="11"/>
                  </a:lnTo>
                  <a:lnTo>
                    <a:pt x="1098" y="24"/>
                  </a:lnTo>
                  <a:lnTo>
                    <a:pt x="1173" y="43"/>
                  </a:lnTo>
                  <a:lnTo>
                    <a:pt x="1244" y="67"/>
                  </a:lnTo>
                  <a:lnTo>
                    <a:pt x="1314" y="96"/>
                  </a:lnTo>
                  <a:lnTo>
                    <a:pt x="1383" y="131"/>
                  </a:lnTo>
                </a:path>
              </a:pathLst>
            </a:custGeom>
            <a:gradFill rotWithShape="0">
              <a:gsLst>
                <a:gs pos="0">
                  <a:srgbClr val="ff7e3d"/>
                </a:gs>
                <a:gs pos="100000">
                  <a:srgbClr val="fed3bd"/>
                </a:gs>
              </a:gsLst>
              <a:lin ang="1297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"/>
            <p:cNvSpPr/>
            <p:nvPr/>
          </p:nvSpPr>
          <p:spPr>
            <a:xfrm rot="21130800">
              <a:off x="6341040" y="3936240"/>
              <a:ext cx="1543320" cy="728640"/>
            </a:xfrm>
            <a:custGeom>
              <a:avLst/>
              <a:gdLst/>
              <a:ahLst/>
              <a:rect l="l" t="t" r="r" b="b"/>
              <a:pathLst>
                <a:path w="2032" h="1536">
                  <a:moveTo>
                    <a:pt x="647" y="131"/>
                  </a:moveTo>
                  <a:lnTo>
                    <a:pt x="716" y="96"/>
                  </a:lnTo>
                  <a:lnTo>
                    <a:pt x="787" y="67"/>
                  </a:lnTo>
                  <a:lnTo>
                    <a:pt x="859" y="43"/>
                  </a:lnTo>
                  <a:lnTo>
                    <a:pt x="933" y="25"/>
                  </a:lnTo>
                  <a:lnTo>
                    <a:pt x="1008" y="11"/>
                  </a:lnTo>
                  <a:lnTo>
                    <a:pt x="1082" y="4"/>
                  </a:lnTo>
                  <a:lnTo>
                    <a:pt x="1157" y="0"/>
                  </a:lnTo>
                  <a:lnTo>
                    <a:pt x="1231" y="0"/>
                  </a:lnTo>
                  <a:lnTo>
                    <a:pt x="1305" y="3"/>
                  </a:lnTo>
                  <a:lnTo>
                    <a:pt x="1377" y="8"/>
                  </a:lnTo>
                  <a:lnTo>
                    <a:pt x="1448" y="17"/>
                  </a:lnTo>
                  <a:lnTo>
                    <a:pt x="1517" y="29"/>
                  </a:lnTo>
                  <a:lnTo>
                    <a:pt x="1582" y="42"/>
                  </a:lnTo>
                  <a:lnTo>
                    <a:pt x="1647" y="55"/>
                  </a:lnTo>
                  <a:lnTo>
                    <a:pt x="1706" y="70"/>
                  </a:lnTo>
                  <a:lnTo>
                    <a:pt x="1762" y="86"/>
                  </a:lnTo>
                  <a:lnTo>
                    <a:pt x="1814" y="102"/>
                  </a:lnTo>
                  <a:lnTo>
                    <a:pt x="1861" y="116"/>
                  </a:lnTo>
                  <a:lnTo>
                    <a:pt x="1905" y="131"/>
                  </a:lnTo>
                  <a:lnTo>
                    <a:pt x="1941" y="146"/>
                  </a:lnTo>
                  <a:lnTo>
                    <a:pt x="1972" y="157"/>
                  </a:lnTo>
                  <a:lnTo>
                    <a:pt x="1998" y="167"/>
                  </a:lnTo>
                  <a:lnTo>
                    <a:pt x="2016" y="175"/>
                  </a:lnTo>
                  <a:lnTo>
                    <a:pt x="2027" y="179"/>
                  </a:lnTo>
                  <a:lnTo>
                    <a:pt x="2032" y="182"/>
                  </a:lnTo>
                  <a:lnTo>
                    <a:pt x="2030" y="186"/>
                  </a:lnTo>
                  <a:lnTo>
                    <a:pt x="2029" y="200"/>
                  </a:lnTo>
                  <a:lnTo>
                    <a:pt x="2026" y="220"/>
                  </a:lnTo>
                  <a:lnTo>
                    <a:pt x="2021" y="249"/>
                  </a:lnTo>
                  <a:lnTo>
                    <a:pt x="2017" y="286"/>
                  </a:lnTo>
                  <a:lnTo>
                    <a:pt x="2008" y="327"/>
                  </a:lnTo>
                  <a:lnTo>
                    <a:pt x="2000" y="375"/>
                  </a:lnTo>
                  <a:lnTo>
                    <a:pt x="1988" y="427"/>
                  </a:lnTo>
                  <a:lnTo>
                    <a:pt x="1975" y="483"/>
                  </a:lnTo>
                  <a:lnTo>
                    <a:pt x="1957" y="542"/>
                  </a:lnTo>
                  <a:lnTo>
                    <a:pt x="1940" y="607"/>
                  </a:lnTo>
                  <a:lnTo>
                    <a:pt x="1918" y="672"/>
                  </a:lnTo>
                  <a:lnTo>
                    <a:pt x="1893" y="738"/>
                  </a:lnTo>
                  <a:lnTo>
                    <a:pt x="1865" y="807"/>
                  </a:lnTo>
                  <a:lnTo>
                    <a:pt x="1835" y="875"/>
                  </a:lnTo>
                  <a:lnTo>
                    <a:pt x="1801" y="944"/>
                  </a:lnTo>
                  <a:lnTo>
                    <a:pt x="1763" y="1011"/>
                  </a:lnTo>
                  <a:lnTo>
                    <a:pt x="1721" y="1076"/>
                  </a:lnTo>
                  <a:lnTo>
                    <a:pt x="1676" y="1141"/>
                  </a:lnTo>
                  <a:lnTo>
                    <a:pt x="1626" y="1202"/>
                  </a:lnTo>
                  <a:lnTo>
                    <a:pt x="1572" y="1259"/>
                  </a:lnTo>
                  <a:lnTo>
                    <a:pt x="1514" y="1313"/>
                  </a:lnTo>
                  <a:lnTo>
                    <a:pt x="1451" y="1361"/>
                  </a:lnTo>
                  <a:lnTo>
                    <a:pt x="1383" y="1405"/>
                  </a:lnTo>
                  <a:lnTo>
                    <a:pt x="1314" y="1440"/>
                  </a:lnTo>
                  <a:lnTo>
                    <a:pt x="1244" y="1469"/>
                  </a:lnTo>
                  <a:lnTo>
                    <a:pt x="1173" y="1494"/>
                  </a:lnTo>
                  <a:lnTo>
                    <a:pt x="1098" y="1511"/>
                  </a:lnTo>
                  <a:lnTo>
                    <a:pt x="1024" y="1524"/>
                  </a:lnTo>
                  <a:lnTo>
                    <a:pt x="949" y="1532"/>
                  </a:lnTo>
                  <a:lnTo>
                    <a:pt x="875" y="1536"/>
                  </a:lnTo>
                  <a:lnTo>
                    <a:pt x="801" y="1536"/>
                  </a:lnTo>
                  <a:lnTo>
                    <a:pt x="726" y="1533"/>
                  </a:lnTo>
                  <a:lnTo>
                    <a:pt x="653" y="1527"/>
                  </a:lnTo>
                  <a:lnTo>
                    <a:pt x="583" y="1519"/>
                  </a:lnTo>
                  <a:lnTo>
                    <a:pt x="515" y="1507"/>
                  </a:lnTo>
                  <a:lnTo>
                    <a:pt x="449" y="1495"/>
                  </a:lnTo>
                  <a:lnTo>
                    <a:pt x="385" y="1481"/>
                  </a:lnTo>
                  <a:lnTo>
                    <a:pt x="325" y="1466"/>
                  </a:lnTo>
                  <a:lnTo>
                    <a:pt x="270" y="1450"/>
                  </a:lnTo>
                  <a:lnTo>
                    <a:pt x="217" y="1434"/>
                  </a:lnTo>
                  <a:lnTo>
                    <a:pt x="169" y="1419"/>
                  </a:lnTo>
                  <a:lnTo>
                    <a:pt x="127" y="1405"/>
                  </a:lnTo>
                  <a:lnTo>
                    <a:pt x="90" y="1390"/>
                  </a:lnTo>
                  <a:lnTo>
                    <a:pt x="58" y="1379"/>
                  </a:lnTo>
                  <a:lnTo>
                    <a:pt x="33" y="1368"/>
                  </a:lnTo>
                  <a:lnTo>
                    <a:pt x="16" y="1361"/>
                  </a:lnTo>
                  <a:lnTo>
                    <a:pt x="4" y="1357"/>
                  </a:lnTo>
                  <a:lnTo>
                    <a:pt x="0" y="1355"/>
                  </a:lnTo>
                  <a:lnTo>
                    <a:pt x="0" y="1349"/>
                  </a:lnTo>
                  <a:lnTo>
                    <a:pt x="3" y="1336"/>
                  </a:lnTo>
                  <a:lnTo>
                    <a:pt x="4" y="1316"/>
                  </a:lnTo>
                  <a:lnTo>
                    <a:pt x="9" y="1287"/>
                  </a:lnTo>
                  <a:lnTo>
                    <a:pt x="14" y="1250"/>
                  </a:lnTo>
                  <a:lnTo>
                    <a:pt x="22" y="1209"/>
                  </a:lnTo>
                  <a:lnTo>
                    <a:pt x="32" y="1161"/>
                  </a:lnTo>
                  <a:lnTo>
                    <a:pt x="44" y="1109"/>
                  </a:lnTo>
                  <a:lnTo>
                    <a:pt x="57" y="1053"/>
                  </a:lnTo>
                  <a:lnTo>
                    <a:pt x="73" y="993"/>
                  </a:lnTo>
                  <a:lnTo>
                    <a:pt x="92" y="929"/>
                  </a:lnTo>
                  <a:lnTo>
                    <a:pt x="114" y="865"/>
                  </a:lnTo>
                  <a:lnTo>
                    <a:pt x="138" y="798"/>
                  </a:lnTo>
                  <a:lnTo>
                    <a:pt x="166" y="729"/>
                  </a:lnTo>
                  <a:lnTo>
                    <a:pt x="197" y="661"/>
                  </a:lnTo>
                  <a:lnTo>
                    <a:pt x="230" y="592"/>
                  </a:lnTo>
                  <a:lnTo>
                    <a:pt x="268" y="525"/>
                  </a:lnTo>
                  <a:lnTo>
                    <a:pt x="311" y="459"/>
                  </a:lnTo>
                  <a:lnTo>
                    <a:pt x="356" y="395"/>
                  </a:lnTo>
                  <a:lnTo>
                    <a:pt x="405" y="334"/>
                  </a:lnTo>
                  <a:lnTo>
                    <a:pt x="459" y="277"/>
                  </a:lnTo>
                  <a:lnTo>
                    <a:pt x="518" y="223"/>
                  </a:lnTo>
                  <a:lnTo>
                    <a:pt x="580" y="175"/>
                  </a:lnTo>
                  <a:lnTo>
                    <a:pt x="647" y="131"/>
                  </a:lnTo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eeda9"/>
                </a:gs>
              </a:gsLst>
              <a:lin ang="8568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b2b2b2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24" name=""/>
            <p:cNvGrpSpPr/>
            <p:nvPr/>
          </p:nvGrpSpPr>
          <p:grpSpPr>
            <a:xfrm>
              <a:off x="6046920" y="4320000"/>
              <a:ext cx="690480" cy="613440"/>
              <a:chOff x="6046920" y="4320000"/>
              <a:chExt cx="690480" cy="613440"/>
            </a:xfrm>
          </p:grpSpPr>
          <p:sp>
            <p:nvSpPr>
              <p:cNvPr id="825" name=""/>
              <p:cNvSpPr/>
              <p:nvPr/>
            </p:nvSpPr>
            <p:spPr>
              <a:xfrm>
                <a:off x="6046920" y="4320000"/>
                <a:ext cx="690480" cy="613440"/>
              </a:xfrm>
              <a:prstGeom prst="ellipse">
                <a:avLst/>
              </a:prstGeom>
              <a:gradFill rotWithShape="0">
                <a:gsLst>
                  <a:gs pos="0">
                    <a:srgbClr val="ff3300"/>
                  </a:gs>
                  <a:gs pos="100000">
                    <a:srgbClr val="3d0c00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91658" dir="338234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125760" y="4330080"/>
                <a:ext cx="532800" cy="231480"/>
              </a:xfrm>
              <a:custGeom>
                <a:avLst/>
                <a:gdLst/>
                <a:ahLst/>
                <a:rect l="l" t="t" r="r" b="b"/>
                <a:pathLst>
                  <a:path w="1321" h="712">
                    <a:moveTo>
                      <a:pt x="1301" y="401"/>
                    </a:moveTo>
                    <a:lnTo>
                      <a:pt x="1317" y="442"/>
                    </a:lnTo>
                    <a:lnTo>
                      <a:pt x="1321" y="481"/>
                    </a:lnTo>
                    <a:lnTo>
                      <a:pt x="1315" y="516"/>
                    </a:lnTo>
                    <a:lnTo>
                      <a:pt x="1298" y="550"/>
                    </a:lnTo>
                    <a:lnTo>
                      <a:pt x="1272" y="579"/>
                    </a:lnTo>
                    <a:lnTo>
                      <a:pt x="1239" y="604"/>
                    </a:lnTo>
                    <a:lnTo>
                      <a:pt x="1196" y="628"/>
                    </a:lnTo>
                    <a:lnTo>
                      <a:pt x="1147" y="649"/>
                    </a:lnTo>
                    <a:lnTo>
                      <a:pt x="1092" y="667"/>
                    </a:lnTo>
                    <a:lnTo>
                      <a:pt x="1031" y="683"/>
                    </a:lnTo>
                    <a:lnTo>
                      <a:pt x="967" y="694"/>
                    </a:lnTo>
                    <a:lnTo>
                      <a:pt x="896" y="704"/>
                    </a:lnTo>
                    <a:lnTo>
                      <a:pt x="824" y="710"/>
                    </a:lnTo>
                    <a:lnTo>
                      <a:pt x="795" y="712"/>
                    </a:lnTo>
                    <a:lnTo>
                      <a:pt x="476" y="712"/>
                    </a:lnTo>
                    <a:lnTo>
                      <a:pt x="472" y="712"/>
                    </a:lnTo>
                    <a:lnTo>
                      <a:pt x="409" y="708"/>
                    </a:lnTo>
                    <a:lnTo>
                      <a:pt x="348" y="704"/>
                    </a:lnTo>
                    <a:lnTo>
                      <a:pt x="290" y="696"/>
                    </a:lnTo>
                    <a:lnTo>
                      <a:pt x="235" y="689"/>
                    </a:lnTo>
                    <a:lnTo>
                      <a:pt x="186" y="677"/>
                    </a:lnTo>
                    <a:lnTo>
                      <a:pt x="141" y="663"/>
                    </a:lnTo>
                    <a:lnTo>
                      <a:pt x="102" y="648"/>
                    </a:lnTo>
                    <a:lnTo>
                      <a:pt x="67" y="630"/>
                    </a:lnTo>
                    <a:lnTo>
                      <a:pt x="39" y="608"/>
                    </a:lnTo>
                    <a:lnTo>
                      <a:pt x="18" y="583"/>
                    </a:lnTo>
                    <a:lnTo>
                      <a:pt x="6" y="554"/>
                    </a:lnTo>
                    <a:lnTo>
                      <a:pt x="0" y="524"/>
                    </a:lnTo>
                    <a:lnTo>
                      <a:pt x="0" y="520"/>
                    </a:lnTo>
                    <a:lnTo>
                      <a:pt x="4" y="487"/>
                    </a:lnTo>
                    <a:lnTo>
                      <a:pt x="16" y="446"/>
                    </a:lnTo>
                    <a:lnTo>
                      <a:pt x="51" y="370"/>
                    </a:lnTo>
                    <a:lnTo>
                      <a:pt x="94" y="299"/>
                    </a:lnTo>
                    <a:lnTo>
                      <a:pt x="147" y="235"/>
                    </a:lnTo>
                    <a:lnTo>
                      <a:pt x="204" y="176"/>
                    </a:lnTo>
                    <a:lnTo>
                      <a:pt x="270" y="125"/>
                    </a:lnTo>
                    <a:lnTo>
                      <a:pt x="341" y="82"/>
                    </a:lnTo>
                    <a:lnTo>
                      <a:pt x="415" y="47"/>
                    </a:lnTo>
                    <a:lnTo>
                      <a:pt x="497" y="21"/>
                    </a:lnTo>
                    <a:lnTo>
                      <a:pt x="581" y="6"/>
                    </a:lnTo>
                    <a:lnTo>
                      <a:pt x="667" y="0"/>
                    </a:lnTo>
                    <a:lnTo>
                      <a:pt x="667" y="0"/>
                    </a:lnTo>
                    <a:lnTo>
                      <a:pt x="759" y="6"/>
                    </a:lnTo>
                    <a:lnTo>
                      <a:pt x="847" y="23"/>
                    </a:lnTo>
                    <a:lnTo>
                      <a:pt x="932" y="53"/>
                    </a:lnTo>
                    <a:lnTo>
                      <a:pt x="1010" y="90"/>
                    </a:lnTo>
                    <a:lnTo>
                      <a:pt x="1082" y="137"/>
                    </a:lnTo>
                    <a:lnTo>
                      <a:pt x="1149" y="194"/>
                    </a:lnTo>
                    <a:lnTo>
                      <a:pt x="1208" y="256"/>
                    </a:lnTo>
                    <a:lnTo>
                      <a:pt x="1258" y="325"/>
                    </a:lnTo>
                    <a:lnTo>
                      <a:pt x="1301" y="401"/>
                    </a:lnTo>
                    <a:lnTo>
                      <a:pt x="1301" y="40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ff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27" name=""/>
            <p:cNvSpPr/>
            <p:nvPr/>
          </p:nvSpPr>
          <p:spPr>
            <a:xfrm>
              <a:off x="5003640" y="4000320"/>
              <a:ext cx="108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hank you!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276240" y="3570480"/>
              <a:ext cx="335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감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134840" y="39909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사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7912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다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134840" y="498816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합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234840" y="5411880"/>
              <a:ext cx="333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000000"/>
                  </a:solidFill>
                  <a:latin typeface="Arial"/>
                </a:rPr>
                <a:t>니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33" name=""/>
          <p:cNvSpPr/>
          <p:nvPr/>
        </p:nvSpPr>
        <p:spPr>
          <a:xfrm rot="21130800">
            <a:off x="2504880" y="5333760"/>
            <a:ext cx="1566720" cy="41904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7" y="131"/>
                </a:moveTo>
                <a:lnTo>
                  <a:pt x="716" y="96"/>
                </a:lnTo>
                <a:lnTo>
                  <a:pt x="787" y="67"/>
                </a:lnTo>
                <a:lnTo>
                  <a:pt x="859" y="43"/>
                </a:lnTo>
                <a:lnTo>
                  <a:pt x="933" y="25"/>
                </a:lnTo>
                <a:lnTo>
                  <a:pt x="1008" y="11"/>
                </a:lnTo>
                <a:lnTo>
                  <a:pt x="1082" y="4"/>
                </a:lnTo>
                <a:lnTo>
                  <a:pt x="1157" y="0"/>
                </a:lnTo>
                <a:lnTo>
                  <a:pt x="1231" y="0"/>
                </a:lnTo>
                <a:lnTo>
                  <a:pt x="1305" y="3"/>
                </a:lnTo>
                <a:lnTo>
                  <a:pt x="1377" y="8"/>
                </a:lnTo>
                <a:lnTo>
                  <a:pt x="1448" y="17"/>
                </a:lnTo>
                <a:lnTo>
                  <a:pt x="1517" y="29"/>
                </a:lnTo>
                <a:lnTo>
                  <a:pt x="1582" y="42"/>
                </a:lnTo>
                <a:lnTo>
                  <a:pt x="1647" y="55"/>
                </a:lnTo>
                <a:lnTo>
                  <a:pt x="1706" y="70"/>
                </a:lnTo>
                <a:lnTo>
                  <a:pt x="1762" y="86"/>
                </a:lnTo>
                <a:lnTo>
                  <a:pt x="1814" y="102"/>
                </a:lnTo>
                <a:lnTo>
                  <a:pt x="1861" y="116"/>
                </a:lnTo>
                <a:lnTo>
                  <a:pt x="1905" y="131"/>
                </a:lnTo>
                <a:lnTo>
                  <a:pt x="1941" y="146"/>
                </a:lnTo>
                <a:lnTo>
                  <a:pt x="1972" y="157"/>
                </a:lnTo>
                <a:lnTo>
                  <a:pt x="1998" y="167"/>
                </a:lnTo>
                <a:lnTo>
                  <a:pt x="2016" y="175"/>
                </a:lnTo>
                <a:lnTo>
                  <a:pt x="2027" y="179"/>
                </a:lnTo>
                <a:lnTo>
                  <a:pt x="2032" y="182"/>
                </a:lnTo>
                <a:lnTo>
                  <a:pt x="2030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1" y="249"/>
                </a:lnTo>
                <a:lnTo>
                  <a:pt x="2017" y="286"/>
                </a:lnTo>
                <a:lnTo>
                  <a:pt x="2008" y="327"/>
                </a:lnTo>
                <a:lnTo>
                  <a:pt x="2000" y="375"/>
                </a:lnTo>
                <a:lnTo>
                  <a:pt x="1988" y="427"/>
                </a:lnTo>
                <a:lnTo>
                  <a:pt x="1975" y="483"/>
                </a:lnTo>
                <a:lnTo>
                  <a:pt x="1957" y="542"/>
                </a:lnTo>
                <a:lnTo>
                  <a:pt x="1940" y="607"/>
                </a:lnTo>
                <a:lnTo>
                  <a:pt x="1918" y="672"/>
                </a:lnTo>
                <a:lnTo>
                  <a:pt x="1893" y="738"/>
                </a:lnTo>
                <a:lnTo>
                  <a:pt x="1865" y="807"/>
                </a:lnTo>
                <a:lnTo>
                  <a:pt x="1835" y="875"/>
                </a:lnTo>
                <a:lnTo>
                  <a:pt x="1801" y="944"/>
                </a:lnTo>
                <a:lnTo>
                  <a:pt x="1763" y="1011"/>
                </a:lnTo>
                <a:lnTo>
                  <a:pt x="1721" y="1076"/>
                </a:lnTo>
                <a:lnTo>
                  <a:pt x="1676" y="1141"/>
                </a:lnTo>
                <a:lnTo>
                  <a:pt x="1626" y="1202"/>
                </a:lnTo>
                <a:lnTo>
                  <a:pt x="1572" y="1259"/>
                </a:lnTo>
                <a:lnTo>
                  <a:pt x="1514" y="1313"/>
                </a:lnTo>
                <a:lnTo>
                  <a:pt x="1451" y="1361"/>
                </a:lnTo>
                <a:lnTo>
                  <a:pt x="1383" y="1405"/>
                </a:lnTo>
                <a:lnTo>
                  <a:pt x="1314" y="1440"/>
                </a:lnTo>
                <a:lnTo>
                  <a:pt x="1244" y="1469"/>
                </a:lnTo>
                <a:lnTo>
                  <a:pt x="1173" y="1494"/>
                </a:lnTo>
                <a:lnTo>
                  <a:pt x="1098" y="1511"/>
                </a:lnTo>
                <a:lnTo>
                  <a:pt x="1024" y="1524"/>
                </a:lnTo>
                <a:lnTo>
                  <a:pt x="949" y="1532"/>
                </a:lnTo>
                <a:lnTo>
                  <a:pt x="875" y="1536"/>
                </a:lnTo>
                <a:lnTo>
                  <a:pt x="801" y="1536"/>
                </a:lnTo>
                <a:lnTo>
                  <a:pt x="726" y="1533"/>
                </a:lnTo>
                <a:lnTo>
                  <a:pt x="653" y="1527"/>
                </a:lnTo>
                <a:lnTo>
                  <a:pt x="583" y="1519"/>
                </a:lnTo>
                <a:lnTo>
                  <a:pt x="515" y="1507"/>
                </a:lnTo>
                <a:lnTo>
                  <a:pt x="449" y="1495"/>
                </a:lnTo>
                <a:lnTo>
                  <a:pt x="385" y="1481"/>
                </a:lnTo>
                <a:lnTo>
                  <a:pt x="325" y="1466"/>
                </a:lnTo>
                <a:lnTo>
                  <a:pt x="270" y="1450"/>
                </a:lnTo>
                <a:lnTo>
                  <a:pt x="217" y="1434"/>
                </a:lnTo>
                <a:lnTo>
                  <a:pt x="169" y="1419"/>
                </a:lnTo>
                <a:lnTo>
                  <a:pt x="127" y="1405"/>
                </a:lnTo>
                <a:lnTo>
                  <a:pt x="90" y="1390"/>
                </a:lnTo>
                <a:lnTo>
                  <a:pt x="58" y="1379"/>
                </a:lnTo>
                <a:lnTo>
                  <a:pt x="33" y="1368"/>
                </a:lnTo>
                <a:lnTo>
                  <a:pt x="16" y="1361"/>
                </a:lnTo>
                <a:lnTo>
                  <a:pt x="4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4" y="1316"/>
                </a:lnTo>
                <a:lnTo>
                  <a:pt x="9" y="1287"/>
                </a:lnTo>
                <a:lnTo>
                  <a:pt x="14" y="1250"/>
                </a:lnTo>
                <a:lnTo>
                  <a:pt x="22" y="1209"/>
                </a:lnTo>
                <a:lnTo>
                  <a:pt x="32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8" y="798"/>
                </a:lnTo>
                <a:lnTo>
                  <a:pt x="166" y="729"/>
                </a:lnTo>
                <a:lnTo>
                  <a:pt x="197" y="661"/>
                </a:lnTo>
                <a:lnTo>
                  <a:pt x="230" y="592"/>
                </a:lnTo>
                <a:lnTo>
                  <a:pt x="268" y="525"/>
                </a:lnTo>
                <a:lnTo>
                  <a:pt x="311" y="459"/>
                </a:lnTo>
                <a:lnTo>
                  <a:pt x="356" y="395"/>
                </a:lnTo>
                <a:lnTo>
                  <a:pt x="405" y="334"/>
                </a:lnTo>
                <a:lnTo>
                  <a:pt x="459" y="277"/>
                </a:lnTo>
                <a:lnTo>
                  <a:pt x="518" y="223"/>
                </a:lnTo>
                <a:lnTo>
                  <a:pt x="580" y="175"/>
                </a:lnTo>
                <a:lnTo>
                  <a:pt x="647" y="13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eda9"/>
              </a:gs>
            </a:gsLst>
            <a:lin ang="8568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"/>
          <p:cNvSpPr/>
          <p:nvPr/>
        </p:nvSpPr>
        <p:spPr>
          <a:xfrm rot="9592800">
            <a:off x="1766520" y="5303880"/>
            <a:ext cx="1879560" cy="33336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1383" y="131"/>
                </a:moveTo>
                <a:lnTo>
                  <a:pt x="1451" y="175"/>
                </a:lnTo>
                <a:lnTo>
                  <a:pt x="1514" y="223"/>
                </a:lnTo>
                <a:lnTo>
                  <a:pt x="1572" y="277"/>
                </a:lnTo>
                <a:lnTo>
                  <a:pt x="1626" y="334"/>
                </a:lnTo>
                <a:lnTo>
                  <a:pt x="1676" y="395"/>
                </a:lnTo>
                <a:lnTo>
                  <a:pt x="1721" y="459"/>
                </a:lnTo>
                <a:lnTo>
                  <a:pt x="1763" y="525"/>
                </a:lnTo>
                <a:lnTo>
                  <a:pt x="1801" y="592"/>
                </a:lnTo>
                <a:lnTo>
                  <a:pt x="1835" y="661"/>
                </a:lnTo>
                <a:lnTo>
                  <a:pt x="1865" y="729"/>
                </a:lnTo>
                <a:lnTo>
                  <a:pt x="1893" y="798"/>
                </a:lnTo>
                <a:lnTo>
                  <a:pt x="1918" y="865"/>
                </a:lnTo>
                <a:lnTo>
                  <a:pt x="1940" y="929"/>
                </a:lnTo>
                <a:lnTo>
                  <a:pt x="1957" y="993"/>
                </a:lnTo>
                <a:lnTo>
                  <a:pt x="1975" y="1053"/>
                </a:lnTo>
                <a:lnTo>
                  <a:pt x="1988" y="1109"/>
                </a:lnTo>
                <a:lnTo>
                  <a:pt x="2000" y="1161"/>
                </a:lnTo>
                <a:lnTo>
                  <a:pt x="2008" y="1209"/>
                </a:lnTo>
                <a:lnTo>
                  <a:pt x="2017" y="1250"/>
                </a:lnTo>
                <a:lnTo>
                  <a:pt x="2021" y="1287"/>
                </a:lnTo>
                <a:lnTo>
                  <a:pt x="2026" y="1316"/>
                </a:lnTo>
                <a:lnTo>
                  <a:pt x="2029" y="1336"/>
                </a:lnTo>
                <a:lnTo>
                  <a:pt x="2030" y="1349"/>
                </a:lnTo>
                <a:lnTo>
                  <a:pt x="2032" y="1355"/>
                </a:lnTo>
                <a:lnTo>
                  <a:pt x="2027" y="1357"/>
                </a:lnTo>
                <a:lnTo>
                  <a:pt x="2016" y="1361"/>
                </a:lnTo>
                <a:lnTo>
                  <a:pt x="1998" y="1368"/>
                </a:lnTo>
                <a:lnTo>
                  <a:pt x="1972" y="1378"/>
                </a:lnTo>
                <a:lnTo>
                  <a:pt x="1941" y="1390"/>
                </a:lnTo>
                <a:lnTo>
                  <a:pt x="1905" y="1405"/>
                </a:lnTo>
                <a:lnTo>
                  <a:pt x="1861" y="1419"/>
                </a:lnTo>
                <a:lnTo>
                  <a:pt x="1814" y="1434"/>
                </a:lnTo>
                <a:lnTo>
                  <a:pt x="1762" y="1450"/>
                </a:lnTo>
                <a:lnTo>
                  <a:pt x="1706" y="1466"/>
                </a:lnTo>
                <a:lnTo>
                  <a:pt x="1647" y="1481"/>
                </a:lnTo>
                <a:lnTo>
                  <a:pt x="1582" y="1495"/>
                </a:lnTo>
                <a:lnTo>
                  <a:pt x="1517" y="1507"/>
                </a:lnTo>
                <a:lnTo>
                  <a:pt x="1448" y="1518"/>
                </a:lnTo>
                <a:lnTo>
                  <a:pt x="1377" y="1527"/>
                </a:lnTo>
                <a:lnTo>
                  <a:pt x="1305" y="1533"/>
                </a:lnTo>
                <a:lnTo>
                  <a:pt x="1231" y="1536"/>
                </a:lnTo>
                <a:lnTo>
                  <a:pt x="1157" y="1536"/>
                </a:lnTo>
                <a:lnTo>
                  <a:pt x="1082" y="1532"/>
                </a:lnTo>
                <a:lnTo>
                  <a:pt x="1008" y="1524"/>
                </a:lnTo>
                <a:lnTo>
                  <a:pt x="933" y="1511"/>
                </a:lnTo>
                <a:lnTo>
                  <a:pt x="859" y="1494"/>
                </a:lnTo>
                <a:lnTo>
                  <a:pt x="787" y="1469"/>
                </a:lnTo>
                <a:lnTo>
                  <a:pt x="716" y="1440"/>
                </a:lnTo>
                <a:lnTo>
                  <a:pt x="647" y="1405"/>
                </a:lnTo>
                <a:lnTo>
                  <a:pt x="580" y="1361"/>
                </a:lnTo>
                <a:lnTo>
                  <a:pt x="518" y="1313"/>
                </a:lnTo>
                <a:lnTo>
                  <a:pt x="459" y="1259"/>
                </a:lnTo>
                <a:lnTo>
                  <a:pt x="405" y="1202"/>
                </a:lnTo>
                <a:lnTo>
                  <a:pt x="356" y="1141"/>
                </a:lnTo>
                <a:lnTo>
                  <a:pt x="311" y="1076"/>
                </a:lnTo>
                <a:lnTo>
                  <a:pt x="268" y="1011"/>
                </a:lnTo>
                <a:lnTo>
                  <a:pt x="230" y="944"/>
                </a:lnTo>
                <a:lnTo>
                  <a:pt x="197" y="875"/>
                </a:lnTo>
                <a:lnTo>
                  <a:pt x="166" y="806"/>
                </a:lnTo>
                <a:lnTo>
                  <a:pt x="138" y="738"/>
                </a:lnTo>
                <a:lnTo>
                  <a:pt x="114" y="672"/>
                </a:lnTo>
                <a:lnTo>
                  <a:pt x="92" y="607"/>
                </a:lnTo>
                <a:lnTo>
                  <a:pt x="73" y="542"/>
                </a:lnTo>
                <a:lnTo>
                  <a:pt x="57" y="483"/>
                </a:lnTo>
                <a:lnTo>
                  <a:pt x="44" y="427"/>
                </a:lnTo>
                <a:lnTo>
                  <a:pt x="32" y="375"/>
                </a:lnTo>
                <a:lnTo>
                  <a:pt x="22" y="326"/>
                </a:lnTo>
                <a:lnTo>
                  <a:pt x="14" y="286"/>
                </a:lnTo>
                <a:lnTo>
                  <a:pt x="9" y="249"/>
                </a:lnTo>
                <a:lnTo>
                  <a:pt x="4" y="220"/>
                </a:lnTo>
                <a:lnTo>
                  <a:pt x="3" y="200"/>
                </a:lnTo>
                <a:lnTo>
                  <a:pt x="0" y="186"/>
                </a:lnTo>
                <a:lnTo>
                  <a:pt x="0" y="182"/>
                </a:lnTo>
                <a:lnTo>
                  <a:pt x="4" y="179"/>
                </a:lnTo>
                <a:lnTo>
                  <a:pt x="16" y="175"/>
                </a:lnTo>
                <a:lnTo>
                  <a:pt x="33" y="167"/>
                </a:lnTo>
                <a:lnTo>
                  <a:pt x="58" y="157"/>
                </a:lnTo>
                <a:lnTo>
                  <a:pt x="90" y="146"/>
                </a:lnTo>
                <a:lnTo>
                  <a:pt x="127" y="131"/>
                </a:lnTo>
                <a:lnTo>
                  <a:pt x="169" y="116"/>
                </a:lnTo>
                <a:lnTo>
                  <a:pt x="217" y="102"/>
                </a:lnTo>
                <a:lnTo>
                  <a:pt x="270" y="86"/>
                </a:lnTo>
                <a:lnTo>
                  <a:pt x="325" y="70"/>
                </a:lnTo>
                <a:lnTo>
                  <a:pt x="385" y="55"/>
                </a:lnTo>
                <a:lnTo>
                  <a:pt x="449" y="42"/>
                </a:lnTo>
                <a:lnTo>
                  <a:pt x="515" y="29"/>
                </a:lnTo>
                <a:lnTo>
                  <a:pt x="583" y="17"/>
                </a:lnTo>
                <a:lnTo>
                  <a:pt x="653" y="8"/>
                </a:lnTo>
                <a:lnTo>
                  <a:pt x="726" y="3"/>
                </a:lnTo>
                <a:lnTo>
                  <a:pt x="801" y="0"/>
                </a:lnTo>
                <a:lnTo>
                  <a:pt x="875" y="0"/>
                </a:lnTo>
                <a:lnTo>
                  <a:pt x="949" y="4"/>
                </a:lnTo>
                <a:lnTo>
                  <a:pt x="1024" y="11"/>
                </a:lnTo>
                <a:lnTo>
                  <a:pt x="1098" y="24"/>
                </a:lnTo>
                <a:lnTo>
                  <a:pt x="1173" y="43"/>
                </a:lnTo>
                <a:lnTo>
                  <a:pt x="1244" y="67"/>
                </a:lnTo>
                <a:lnTo>
                  <a:pt x="1314" y="96"/>
                </a:lnTo>
                <a:lnTo>
                  <a:pt x="1383" y="131"/>
                </a:lnTo>
              </a:path>
            </a:pathLst>
          </a:custGeom>
          <a:gradFill rotWithShape="0">
            <a:gsLst>
              <a:gs pos="0">
                <a:srgbClr val="ff7e3d"/>
              </a:gs>
              <a:gs pos="100000">
                <a:srgbClr val="fed3bd"/>
              </a:gs>
            </a:gsLst>
            <a:lin ang="3906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5" name=""/>
          <p:cNvSpPr/>
          <p:nvPr/>
        </p:nvSpPr>
        <p:spPr>
          <a:xfrm rot="4204200">
            <a:off x="1625400" y="4473360"/>
            <a:ext cx="444240" cy="20952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53b749"/>
              </a:gs>
              <a:gs pos="100000">
                <a:srgbClr val="c4e6c1"/>
              </a:gs>
            </a:gsLst>
            <a:lin ang="1194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"/>
          <p:cNvSpPr/>
          <p:nvPr/>
        </p:nvSpPr>
        <p:spPr>
          <a:xfrm rot="21118800">
            <a:off x="755640" y="5229360"/>
            <a:ext cx="720720" cy="676080"/>
          </a:xfrm>
          <a:custGeom>
            <a:avLst/>
            <a:gdLst/>
            <a:ahLst/>
            <a:rect l="l" t="t" r="r" b="b"/>
            <a:pathLst>
              <a:path w="2032" h="1536">
                <a:moveTo>
                  <a:pt x="648" y="131"/>
                </a:moveTo>
                <a:lnTo>
                  <a:pt x="717" y="96"/>
                </a:lnTo>
                <a:lnTo>
                  <a:pt x="788" y="67"/>
                </a:lnTo>
                <a:lnTo>
                  <a:pt x="860" y="43"/>
                </a:lnTo>
                <a:lnTo>
                  <a:pt x="934" y="24"/>
                </a:lnTo>
                <a:lnTo>
                  <a:pt x="1008" y="11"/>
                </a:lnTo>
                <a:lnTo>
                  <a:pt x="1083" y="4"/>
                </a:lnTo>
                <a:lnTo>
                  <a:pt x="1157" y="0"/>
                </a:lnTo>
                <a:lnTo>
                  <a:pt x="1232" y="0"/>
                </a:lnTo>
                <a:lnTo>
                  <a:pt x="1306" y="3"/>
                </a:lnTo>
                <a:lnTo>
                  <a:pt x="1377" y="8"/>
                </a:lnTo>
                <a:lnTo>
                  <a:pt x="1449" y="17"/>
                </a:lnTo>
                <a:lnTo>
                  <a:pt x="1517" y="29"/>
                </a:lnTo>
                <a:lnTo>
                  <a:pt x="1583" y="42"/>
                </a:lnTo>
                <a:lnTo>
                  <a:pt x="1647" y="55"/>
                </a:lnTo>
                <a:lnTo>
                  <a:pt x="1707" y="70"/>
                </a:lnTo>
                <a:lnTo>
                  <a:pt x="1762" y="86"/>
                </a:lnTo>
                <a:lnTo>
                  <a:pt x="1815" y="102"/>
                </a:lnTo>
                <a:lnTo>
                  <a:pt x="1862" y="116"/>
                </a:lnTo>
                <a:lnTo>
                  <a:pt x="1905" y="131"/>
                </a:lnTo>
                <a:lnTo>
                  <a:pt x="1942" y="146"/>
                </a:lnTo>
                <a:lnTo>
                  <a:pt x="1972" y="157"/>
                </a:lnTo>
                <a:lnTo>
                  <a:pt x="1999" y="167"/>
                </a:lnTo>
                <a:lnTo>
                  <a:pt x="2016" y="175"/>
                </a:lnTo>
                <a:lnTo>
                  <a:pt x="2028" y="179"/>
                </a:lnTo>
                <a:lnTo>
                  <a:pt x="2032" y="182"/>
                </a:lnTo>
                <a:lnTo>
                  <a:pt x="2031" y="186"/>
                </a:lnTo>
                <a:lnTo>
                  <a:pt x="2029" y="200"/>
                </a:lnTo>
                <a:lnTo>
                  <a:pt x="2026" y="220"/>
                </a:lnTo>
                <a:lnTo>
                  <a:pt x="2022" y="249"/>
                </a:lnTo>
                <a:lnTo>
                  <a:pt x="2018" y="286"/>
                </a:lnTo>
                <a:lnTo>
                  <a:pt x="2009" y="326"/>
                </a:lnTo>
                <a:lnTo>
                  <a:pt x="2000" y="375"/>
                </a:lnTo>
                <a:lnTo>
                  <a:pt x="1989" y="427"/>
                </a:lnTo>
                <a:lnTo>
                  <a:pt x="1975" y="483"/>
                </a:lnTo>
                <a:lnTo>
                  <a:pt x="1958" y="542"/>
                </a:lnTo>
                <a:lnTo>
                  <a:pt x="1940" y="607"/>
                </a:lnTo>
                <a:lnTo>
                  <a:pt x="1919" y="672"/>
                </a:lnTo>
                <a:lnTo>
                  <a:pt x="1894" y="738"/>
                </a:lnTo>
                <a:lnTo>
                  <a:pt x="1866" y="806"/>
                </a:lnTo>
                <a:lnTo>
                  <a:pt x="1835" y="875"/>
                </a:lnTo>
                <a:lnTo>
                  <a:pt x="1802" y="944"/>
                </a:lnTo>
                <a:lnTo>
                  <a:pt x="1764" y="1011"/>
                </a:lnTo>
                <a:lnTo>
                  <a:pt x="1722" y="1076"/>
                </a:lnTo>
                <a:lnTo>
                  <a:pt x="1676" y="1141"/>
                </a:lnTo>
                <a:lnTo>
                  <a:pt x="1627" y="1202"/>
                </a:lnTo>
                <a:lnTo>
                  <a:pt x="1573" y="1259"/>
                </a:lnTo>
                <a:lnTo>
                  <a:pt x="1514" y="1313"/>
                </a:lnTo>
                <a:lnTo>
                  <a:pt x="1452" y="1361"/>
                </a:lnTo>
                <a:lnTo>
                  <a:pt x="1383" y="1405"/>
                </a:lnTo>
                <a:lnTo>
                  <a:pt x="1315" y="1440"/>
                </a:lnTo>
                <a:lnTo>
                  <a:pt x="1245" y="1469"/>
                </a:lnTo>
                <a:lnTo>
                  <a:pt x="1173" y="1494"/>
                </a:lnTo>
                <a:lnTo>
                  <a:pt x="1099" y="1511"/>
                </a:lnTo>
                <a:lnTo>
                  <a:pt x="1024" y="1524"/>
                </a:lnTo>
                <a:lnTo>
                  <a:pt x="950" y="1532"/>
                </a:lnTo>
                <a:lnTo>
                  <a:pt x="876" y="1536"/>
                </a:lnTo>
                <a:lnTo>
                  <a:pt x="801" y="1536"/>
                </a:lnTo>
                <a:lnTo>
                  <a:pt x="727" y="1533"/>
                </a:lnTo>
                <a:lnTo>
                  <a:pt x="654" y="1527"/>
                </a:lnTo>
                <a:lnTo>
                  <a:pt x="584" y="1518"/>
                </a:lnTo>
                <a:lnTo>
                  <a:pt x="515" y="1507"/>
                </a:lnTo>
                <a:lnTo>
                  <a:pt x="450" y="1495"/>
                </a:lnTo>
                <a:lnTo>
                  <a:pt x="385" y="1481"/>
                </a:lnTo>
                <a:lnTo>
                  <a:pt x="326" y="1466"/>
                </a:lnTo>
                <a:lnTo>
                  <a:pt x="270" y="1450"/>
                </a:lnTo>
                <a:lnTo>
                  <a:pt x="218" y="1434"/>
                </a:lnTo>
                <a:lnTo>
                  <a:pt x="170" y="1419"/>
                </a:lnTo>
                <a:lnTo>
                  <a:pt x="127" y="1405"/>
                </a:lnTo>
                <a:lnTo>
                  <a:pt x="91" y="1390"/>
                </a:lnTo>
                <a:lnTo>
                  <a:pt x="59" y="1378"/>
                </a:lnTo>
                <a:lnTo>
                  <a:pt x="34" y="1368"/>
                </a:lnTo>
                <a:lnTo>
                  <a:pt x="16" y="1361"/>
                </a:lnTo>
                <a:lnTo>
                  <a:pt x="5" y="1357"/>
                </a:lnTo>
                <a:lnTo>
                  <a:pt x="0" y="1355"/>
                </a:lnTo>
                <a:lnTo>
                  <a:pt x="0" y="1349"/>
                </a:lnTo>
                <a:lnTo>
                  <a:pt x="3" y="1336"/>
                </a:lnTo>
                <a:lnTo>
                  <a:pt x="5" y="1316"/>
                </a:lnTo>
                <a:lnTo>
                  <a:pt x="9" y="1287"/>
                </a:lnTo>
                <a:lnTo>
                  <a:pt x="15" y="1250"/>
                </a:lnTo>
                <a:lnTo>
                  <a:pt x="22" y="1209"/>
                </a:lnTo>
                <a:lnTo>
                  <a:pt x="33" y="1161"/>
                </a:lnTo>
                <a:lnTo>
                  <a:pt x="44" y="1109"/>
                </a:lnTo>
                <a:lnTo>
                  <a:pt x="57" y="1053"/>
                </a:lnTo>
                <a:lnTo>
                  <a:pt x="73" y="993"/>
                </a:lnTo>
                <a:lnTo>
                  <a:pt x="92" y="929"/>
                </a:lnTo>
                <a:lnTo>
                  <a:pt x="114" y="865"/>
                </a:lnTo>
                <a:lnTo>
                  <a:pt x="139" y="798"/>
                </a:lnTo>
                <a:lnTo>
                  <a:pt x="167" y="729"/>
                </a:lnTo>
                <a:lnTo>
                  <a:pt x="197" y="661"/>
                </a:lnTo>
                <a:lnTo>
                  <a:pt x="231" y="592"/>
                </a:lnTo>
                <a:lnTo>
                  <a:pt x="269" y="525"/>
                </a:lnTo>
                <a:lnTo>
                  <a:pt x="311" y="459"/>
                </a:lnTo>
                <a:lnTo>
                  <a:pt x="356" y="395"/>
                </a:lnTo>
                <a:lnTo>
                  <a:pt x="406" y="334"/>
                </a:lnTo>
                <a:lnTo>
                  <a:pt x="460" y="277"/>
                </a:lnTo>
                <a:lnTo>
                  <a:pt x="518" y="223"/>
                </a:lnTo>
                <a:lnTo>
                  <a:pt x="581" y="175"/>
                </a:lnTo>
                <a:lnTo>
                  <a:pt x="648" y="131"/>
                </a:lnTo>
              </a:path>
            </a:pathLst>
          </a:custGeom>
          <a:gradFill rotWithShape="0">
            <a:gsLst>
              <a:gs pos="0">
                <a:srgbClr val="e7c9ec"/>
              </a:gs>
              <a:gs pos="100000">
                <a:srgbClr val="bc61cb"/>
              </a:gs>
            </a:gsLst>
            <a:lin ang="1128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7" name=""/>
          <p:cNvSpPr/>
          <p:nvPr/>
        </p:nvSpPr>
        <p:spPr>
          <a:xfrm>
            <a:off x="395280" y="5445000"/>
            <a:ext cx="693720" cy="44784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5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5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40"/>
                </a:lnTo>
                <a:lnTo>
                  <a:pt x="835" y="2266"/>
                </a:lnTo>
                <a:lnTo>
                  <a:pt x="806" y="2291"/>
                </a:lnTo>
                <a:lnTo>
                  <a:pt x="783" y="2310"/>
                </a:lnTo>
                <a:lnTo>
                  <a:pt x="763" y="2326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6"/>
                </a:lnTo>
                <a:lnTo>
                  <a:pt x="688" y="2310"/>
                </a:lnTo>
                <a:lnTo>
                  <a:pt x="665" y="2291"/>
                </a:lnTo>
                <a:lnTo>
                  <a:pt x="636" y="2266"/>
                </a:lnTo>
                <a:lnTo>
                  <a:pt x="604" y="2240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5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5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9"/>
                </a:lnTo>
                <a:lnTo>
                  <a:pt x="13" y="1026"/>
                </a:lnTo>
                <a:lnTo>
                  <a:pt x="27" y="954"/>
                </a:lnTo>
                <a:lnTo>
                  <a:pt x="48" y="884"/>
                </a:lnTo>
                <a:lnTo>
                  <a:pt x="71" y="816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5"/>
                </a:lnTo>
                <a:lnTo>
                  <a:pt x="452" y="251"/>
                </a:lnTo>
                <a:lnTo>
                  <a:pt x="493" y="210"/>
                </a:lnTo>
                <a:lnTo>
                  <a:pt x="532" y="171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1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5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6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6"/>
                </a:lnTo>
                <a:lnTo>
                  <a:pt x="1467" y="1099"/>
                </a:lnTo>
                <a:lnTo>
                  <a:pt x="1470" y="1173"/>
                </a:lnTo>
              </a:path>
            </a:pathLst>
          </a:custGeom>
          <a:gradFill rotWithShape="0">
            <a:gsLst>
              <a:gs pos="0">
                <a:srgbClr val="fea9cb"/>
              </a:gs>
              <a:gs pos="100000">
                <a:srgbClr val="ff0066"/>
              </a:gs>
            </a:gsLst>
            <a:lin ang="5400000"/>
          </a:gradFill>
          <a:ln w="38160">
            <a:solidFill>
              <a:srgbClr val="ffffff"/>
            </a:solidFill>
            <a:round/>
          </a:ln>
          <a:effectLst>
            <a:outerShdw dist="134955" dir="2927119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sh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9" name=""/>
          <p:cNvSpPr/>
          <p:nvPr/>
        </p:nvSpPr>
        <p:spPr>
          <a:xfrm>
            <a:off x="971640" y="2060640"/>
            <a:ext cx="7559640" cy="1915920"/>
          </a:xfrm>
          <a:prstGeom prst="roundRect">
            <a:avLst>
              <a:gd name="adj" fmla="val 16667"/>
            </a:avLst>
          </a:prstGeom>
          <a:noFill/>
          <a:ln w="47520">
            <a:solidFill>
              <a:srgbClr val="1b9ad9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우리아이 희망네트워크 지원사업 평가연구</a:t>
            </a:r>
            <a:r>
              <a:rPr b="0" lang="ko-KR" sz="2000" spc="-1" strike="noStrike">
                <a:solidFill>
                  <a:srgbClr val="eaeaea"/>
                </a:solidFill>
                <a:latin typeface="HY견고딕"/>
                <a:ea typeface="HY견고딕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Part D. </a:t>
            </a:r>
            <a:r>
              <a:rPr b="0" lang="ko-KR" sz="3600" spc="-1" strike="noStrike">
                <a:solidFill>
                  <a:srgbClr val="000000"/>
                </a:solidFill>
                <a:latin typeface="HY견명조"/>
                <a:ea typeface="HY견명조"/>
              </a:rPr>
              <a:t>특성화 전략 탐색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42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43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44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연구대상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47" name=""/>
            <p:cNvSpPr/>
            <p:nvPr/>
          </p:nvSpPr>
          <p:spPr>
            <a:xfrm>
              <a:off x="2315520" y="2133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센터 실무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연계자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서비스이용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관련 전문가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4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4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5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4072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47440" y="3592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자료수집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54" name=""/>
            <p:cNvSpPr/>
            <p:nvPr/>
          </p:nvSpPr>
          <p:spPr>
            <a:xfrm>
              <a:off x="2315520" y="335772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포커스그룹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질문지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문헌자료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5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방법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57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58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59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847440" y="474552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분석방법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62" name=""/>
            <p:cNvSpPr/>
            <p:nvPr/>
          </p:nvSpPr>
          <p:spPr>
            <a:xfrm>
              <a:off x="2315520" y="451044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속적 비교분석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(constant comparative analysis) 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방법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/ 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64" name=""/>
          <p:cNvGrpSpPr/>
          <p:nvPr/>
        </p:nvGrpSpPr>
        <p:grpSpPr>
          <a:xfrm>
            <a:off x="250920" y="1989000"/>
            <a:ext cx="8568720" cy="936720"/>
            <a:chOff x="250920" y="1989000"/>
            <a:chExt cx="8568720" cy="936720"/>
          </a:xfrm>
        </p:grpSpPr>
        <p:sp>
          <p:nvSpPr>
            <p:cNvPr id="865" name=""/>
            <p:cNvSpPr/>
            <p:nvPr/>
          </p:nvSpPr>
          <p:spPr>
            <a:xfrm>
              <a:off x="250920" y="1989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66" name=""/>
            <p:cNvGrpSpPr/>
            <p:nvPr/>
          </p:nvGrpSpPr>
          <p:grpSpPr>
            <a:xfrm>
              <a:off x="437400" y="2075040"/>
              <a:ext cx="1651680" cy="766080"/>
              <a:chOff x="437400" y="2075040"/>
              <a:chExt cx="1651680" cy="766080"/>
            </a:xfrm>
          </p:grpSpPr>
          <p:sp>
            <p:nvSpPr>
              <p:cNvPr id="867" name=""/>
              <p:cNvSpPr/>
              <p:nvPr/>
            </p:nvSpPr>
            <p:spPr>
              <a:xfrm>
                <a:off x="437400" y="2075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40720" y="2124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847440" y="236880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HY견고딕"/>
                    <a:ea typeface="HY견고딕"/>
                  </a:rPr>
                  <a:t>사업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0" name=""/>
            <p:cNvSpPr/>
            <p:nvPr/>
          </p:nvSpPr>
          <p:spPr>
            <a:xfrm>
              <a:off x="2315520" y="2133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참여주체들이 인식하고 있는 사업목적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특징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사업의 강점과 약점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강점과 약점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1" name=""/>
          <p:cNvGrpSpPr/>
          <p:nvPr/>
        </p:nvGrpSpPr>
        <p:grpSpPr>
          <a:xfrm>
            <a:off x="250920" y="4365720"/>
            <a:ext cx="8568720" cy="936360"/>
            <a:chOff x="250920" y="4365720"/>
            <a:chExt cx="8568720" cy="936360"/>
          </a:xfrm>
        </p:grpSpPr>
        <p:sp>
          <p:nvSpPr>
            <p:cNvPr id="872" name=""/>
            <p:cNvSpPr/>
            <p:nvPr/>
          </p:nvSpPr>
          <p:spPr>
            <a:xfrm>
              <a:off x="250920" y="4365720"/>
              <a:ext cx="8568720" cy="9363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73" name=""/>
            <p:cNvGrpSpPr/>
            <p:nvPr/>
          </p:nvGrpSpPr>
          <p:grpSpPr>
            <a:xfrm>
              <a:off x="437400" y="4451760"/>
              <a:ext cx="1651680" cy="765720"/>
              <a:chOff x="437400" y="4451760"/>
              <a:chExt cx="1651680" cy="765720"/>
            </a:xfrm>
          </p:grpSpPr>
          <p:sp>
            <p:nvSpPr>
              <p:cNvPr id="874" name=""/>
              <p:cNvSpPr/>
              <p:nvPr/>
            </p:nvSpPr>
            <p:spPr>
              <a:xfrm>
                <a:off x="437400" y="4451760"/>
                <a:ext cx="1651680" cy="76572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40720" y="4501080"/>
                <a:ext cx="823680" cy="38268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725400" y="4795560"/>
                <a:ext cx="103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16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특성화전략탐색</a:t>
                </a:r>
                <a:endParaRPr b="0" lang="en-US" sz="16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77" name=""/>
            <p:cNvSpPr/>
            <p:nvPr/>
          </p:nvSpPr>
          <p:spPr>
            <a:xfrm>
              <a:off x="2315520" y="4510440"/>
              <a:ext cx="6297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SWOT</a:t>
              </a:r>
              <a:r>
                <a:rPr b="0" lang="ko-KR" sz="20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분석결과 등을 바탕으로 사업방향 제언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78" name=""/>
          <p:cNvGrpSpPr/>
          <p:nvPr/>
        </p:nvGrpSpPr>
        <p:grpSpPr>
          <a:xfrm>
            <a:off x="250920" y="3213000"/>
            <a:ext cx="8568720" cy="936720"/>
            <a:chOff x="250920" y="3213000"/>
            <a:chExt cx="8568720" cy="936720"/>
          </a:xfrm>
        </p:grpSpPr>
        <p:sp>
          <p:nvSpPr>
            <p:cNvPr id="879" name=""/>
            <p:cNvSpPr/>
            <p:nvPr/>
          </p:nvSpPr>
          <p:spPr>
            <a:xfrm>
              <a:off x="250920" y="3213000"/>
              <a:ext cx="8568720" cy="9367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1f1f1"/>
                </a:gs>
                <a:gs pos="100000">
                  <a:srgbClr val="dddddd"/>
                </a:gs>
              </a:gsLst>
              <a:lin ang="135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880" name=""/>
            <p:cNvGrpSpPr/>
            <p:nvPr/>
          </p:nvGrpSpPr>
          <p:grpSpPr>
            <a:xfrm>
              <a:off x="437400" y="3299040"/>
              <a:ext cx="1651680" cy="766080"/>
              <a:chOff x="437400" y="3299040"/>
              <a:chExt cx="1651680" cy="766080"/>
            </a:xfrm>
          </p:grpSpPr>
          <p:sp>
            <p:nvSpPr>
              <p:cNvPr id="881" name=""/>
              <p:cNvSpPr/>
              <p:nvPr/>
            </p:nvSpPr>
            <p:spPr>
              <a:xfrm>
                <a:off x="437400" y="3299040"/>
                <a:ext cx="1651680" cy="7660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d26f5e"/>
                  </a:gs>
                  <a:gs pos="100000">
                    <a:srgbClr val="924d41"/>
                  </a:gs>
                </a:gsLst>
                <a:lin ang="5400000"/>
              </a:gra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41080" y="3348360"/>
                <a:ext cx="823680" cy="3830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5afa6"/>
                  </a:gs>
                  <a:gs pos="50000">
                    <a:srgbClr val="d26f5e">
                      <a:alpha val="0"/>
                    </a:srgbClr>
                  </a:gs>
                  <a:gs pos="100000">
                    <a:srgbClr val="e5afa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695520" y="3592800"/>
                <a:ext cx="1095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ko-KR" sz="2000" spc="-1" strike="noStrike">
                    <a:solidFill>
                      <a:srgbClr val="ffffff"/>
                    </a:solidFill>
                    <a:latin typeface="Arial"/>
                    <a:ea typeface="HY견고딕"/>
                  </a:rPr>
                  <a:t>외부환경분석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sp>
          <p:nvSpPr>
            <p:cNvPr id="884" name=""/>
            <p:cNvSpPr/>
            <p:nvPr/>
          </p:nvSpPr>
          <p:spPr>
            <a:xfrm>
              <a:off x="2315520" y="3357720"/>
              <a:ext cx="62978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표적집단 규모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빈곤아동관련 정책</a:t>
              </a: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,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유사서비스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=&gt; </a:t>
              </a:r>
              <a:r>
                <a:rPr b="0" lang="ko-KR" sz="20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기회와 위협요인 분석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8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영역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8" name=""/>
          <p:cNvSpPr/>
          <p:nvPr/>
        </p:nvSpPr>
        <p:spPr>
          <a:xfrm>
            <a:off x="261936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9" name=""/>
          <p:cNvSpPr/>
          <p:nvPr/>
        </p:nvSpPr>
        <p:spPr>
          <a:xfrm>
            <a:off x="3260160" y="1413000"/>
            <a:ext cx="40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초기 우리아이 희망네트워크 지원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2338920" y="2539800"/>
            <a:ext cx="4581720" cy="2881440"/>
            <a:chOff x="2338920" y="2539800"/>
            <a:chExt cx="4581720" cy="2881440"/>
          </a:xfrm>
        </p:grpSpPr>
        <p:cxnSp>
          <p:nvCxnSpPr>
            <p:cNvPr id="891" name="_s227336"/>
            <p:cNvCxnSpPr>
              <a:stCxn id="892" idx="0"/>
              <a:endCxn id="893" idx="2"/>
            </p:cNvCxnSpPr>
            <p:nvPr/>
          </p:nvCxnSpPr>
          <p:spPr>
            <a:xfrm flipV="1" rot="16200000">
              <a:off x="5125320" y="2692800"/>
              <a:ext cx="229320" cy="1191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cxnSp>
          <p:nvCxnSpPr>
            <p:cNvPr id="894" name="_s227337"/>
            <p:cNvCxnSpPr>
              <a:stCxn id="895" idx="0"/>
              <a:endCxn id="893" idx="2"/>
            </p:cNvCxnSpPr>
            <p:nvPr/>
          </p:nvCxnSpPr>
          <p:spPr>
            <a:xfrm flipH="1" flipV="1" rot="5400000">
              <a:off x="3933000" y="2691360"/>
              <a:ext cx="229320" cy="119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969696"/>
              </a:solidFill>
              <a:miter/>
            </a:ln>
          </p:spPr>
        </p:cxnSp>
        <p:sp>
          <p:nvSpPr>
            <p:cNvPr id="893" name="_s227338"/>
            <p:cNvSpPr/>
            <p:nvPr/>
          </p:nvSpPr>
          <p:spPr>
            <a:xfrm>
              <a:off x="4005720" y="2539800"/>
              <a:ext cx="1276920" cy="6350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ffcc66"/>
              </a:solidFill>
              <a:miter/>
            </a:ln>
            <a:effectLst>
              <a:outerShdw dist="63504" dir="19383909" blurRad="0" rotWithShape="0">
                <a:srgbClr val="ffcc6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강점관점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사례관리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5" name="_s227339"/>
            <p:cNvSpPr/>
            <p:nvPr/>
          </p:nvSpPr>
          <p:spPr>
            <a:xfrm>
              <a:off x="2365920" y="3403440"/>
              <a:ext cx="2170800" cy="6350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동을 중심으로 한 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가족기반 서비스 제공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2" name="_s227340"/>
            <p:cNvSpPr/>
            <p:nvPr/>
          </p:nvSpPr>
          <p:spPr>
            <a:xfrm>
              <a:off x="4749840" y="3403440"/>
              <a:ext cx="2170800" cy="635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51afb9"/>
              </a:solidFill>
              <a:miter/>
            </a:ln>
            <a:effectLst>
              <a:outerShdw dist="63504" dir="19383909" blurRad="0" rotWithShape="0">
                <a:srgbClr val="51afb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ko-KR" sz="16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네트워크 구축</a:t>
              </a:r>
              <a:endParaRPr b="0" lang="en-US" sz="16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338920" y="5013360"/>
              <a:ext cx="4495680" cy="407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19a7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‘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아이를 함께 키우는 이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,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지역사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’</a:t>
              </a:r>
              <a:r>
                <a:rPr b="0" lang="ko-KR" sz="1800" spc="-1" strike="noStrike">
                  <a:solidFill>
                    <a:srgbClr val="000000"/>
                  </a:solidFill>
                  <a:latin typeface="Arial"/>
                  <a:ea typeface="HY견고딕"/>
                </a:rPr>
                <a:t>실현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627280" y="4366080"/>
            <a:ext cx="3816360" cy="3733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Arial"/>
                <a:ea typeface="HY견고딕"/>
              </a:rPr>
              <a:t>지역사회 내 지속적 아동보호기반 마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9" name=""/>
          <p:cNvSpPr/>
          <p:nvPr/>
        </p:nvSpPr>
        <p:spPr>
          <a:xfrm>
            <a:off x="4500720" y="472428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0" name=""/>
          <p:cNvSpPr/>
          <p:nvPr/>
        </p:nvSpPr>
        <p:spPr>
          <a:xfrm>
            <a:off x="586728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2" name=""/>
          <p:cNvSpPr/>
          <p:nvPr/>
        </p:nvSpPr>
        <p:spPr>
          <a:xfrm>
            <a:off x="3419640" y="4076640"/>
            <a:ext cx="0" cy="287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3" name=""/>
          <p:cNvSpPr/>
          <p:nvPr/>
        </p:nvSpPr>
        <p:spPr>
          <a:xfrm>
            <a:off x="2627280" y="98100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6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7" name=""/>
          <p:cNvSpPr/>
          <p:nvPr/>
        </p:nvSpPr>
        <p:spPr>
          <a:xfrm>
            <a:off x="2268360" y="1268280"/>
            <a:ext cx="473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사업참여주체별 인식한 사업의 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2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13" name=""/>
          <p:cNvGraphicFramePr/>
          <p:nvPr/>
        </p:nvGraphicFramePr>
        <p:xfrm>
          <a:off x="468360" y="1700280"/>
          <a:ext cx="8013600" cy="4406760"/>
        </p:xfrm>
        <a:graphic>
          <a:graphicData uri="http://schemas.openxmlformats.org/drawingml/2006/table">
            <a:tbl>
              <a:tblPr/>
              <a:tblGrid>
                <a:gridCol w="718920"/>
                <a:gridCol w="1019520"/>
                <a:gridCol w="2009520"/>
                <a:gridCol w="1119240"/>
                <a:gridCol w="1325520"/>
                <a:gridCol w="182088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의 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77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초기 목적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례관리를 통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의 질 제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의 발달적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합적 욕구해결을 위한 가족기반 서비스 제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네트워크 활용 및 구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내 지속적 아동보호기반 마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실무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안에서 아동보호시스템을 만들어 가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가 책임감과 공동체 의식을 갖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67e75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스스로 해결할 수 있는 역량을 키워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이들이 행복하고 건강하게 자랄 수 있도록 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5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연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자원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집중적인 사례관리를 실시하는 것임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실질적으로 필요한 서비스를 다각적으로 제공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부모의 경제활동 등으로 방임되는 아동들을 보호해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어려운 가정을 도와주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∙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사각지대를 해결하는 것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7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8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9" name=""/>
          <p:cNvSpPr/>
          <p:nvPr/>
        </p:nvSpPr>
        <p:spPr>
          <a:xfrm>
            <a:off x="3674520" y="1268280"/>
            <a:ext cx="27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4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7" name=""/>
          <p:cNvSpPr/>
          <p:nvPr/>
        </p:nvSpPr>
        <p:spPr>
          <a:xfrm rot="20241600">
            <a:off x="1907640" y="2276280"/>
            <a:ext cx="6075360" cy="3357360"/>
          </a:xfrm>
          <a:custGeom>
            <a:avLst/>
            <a:gdLst/>
            <a:ahLst/>
            <a:rect l="l" t="t" r="r" b="b"/>
            <a:pathLst>
              <a:path w="4040" h="1888">
                <a:moveTo>
                  <a:pt x="2020" y="0"/>
                </a:moveTo>
                <a:lnTo>
                  <a:pt x="1854" y="4"/>
                </a:lnTo>
                <a:lnTo>
                  <a:pt x="1692" y="12"/>
                </a:lnTo>
                <a:lnTo>
                  <a:pt x="1534" y="28"/>
                </a:lnTo>
                <a:lnTo>
                  <a:pt x="1382" y="48"/>
                </a:lnTo>
                <a:lnTo>
                  <a:pt x="1234" y="74"/>
                </a:lnTo>
                <a:lnTo>
                  <a:pt x="1092" y="106"/>
                </a:lnTo>
                <a:lnTo>
                  <a:pt x="956" y="142"/>
                </a:lnTo>
                <a:lnTo>
                  <a:pt x="828" y="182"/>
                </a:lnTo>
                <a:lnTo>
                  <a:pt x="706" y="228"/>
                </a:lnTo>
                <a:lnTo>
                  <a:pt x="592" y="276"/>
                </a:lnTo>
                <a:lnTo>
                  <a:pt x="486" y="330"/>
                </a:lnTo>
                <a:lnTo>
                  <a:pt x="390" y="386"/>
                </a:lnTo>
                <a:lnTo>
                  <a:pt x="302" y="446"/>
                </a:lnTo>
                <a:lnTo>
                  <a:pt x="226" y="510"/>
                </a:lnTo>
                <a:lnTo>
                  <a:pt x="158" y="576"/>
                </a:lnTo>
                <a:lnTo>
                  <a:pt x="102" y="646"/>
                </a:lnTo>
                <a:lnTo>
                  <a:pt x="58" y="718"/>
                </a:lnTo>
                <a:lnTo>
                  <a:pt x="26" y="790"/>
                </a:lnTo>
                <a:lnTo>
                  <a:pt x="6" y="866"/>
                </a:lnTo>
                <a:lnTo>
                  <a:pt x="0" y="944"/>
                </a:lnTo>
                <a:lnTo>
                  <a:pt x="6" y="1022"/>
                </a:lnTo>
                <a:lnTo>
                  <a:pt x="26" y="1098"/>
                </a:lnTo>
                <a:lnTo>
                  <a:pt x="58" y="1170"/>
                </a:lnTo>
                <a:lnTo>
                  <a:pt x="102" y="1242"/>
                </a:lnTo>
                <a:lnTo>
                  <a:pt x="158" y="1312"/>
                </a:lnTo>
                <a:lnTo>
                  <a:pt x="226" y="1378"/>
                </a:lnTo>
                <a:lnTo>
                  <a:pt x="302" y="1442"/>
                </a:lnTo>
                <a:lnTo>
                  <a:pt x="390" y="1502"/>
                </a:lnTo>
                <a:lnTo>
                  <a:pt x="486" y="1558"/>
                </a:lnTo>
                <a:lnTo>
                  <a:pt x="592" y="1612"/>
                </a:lnTo>
                <a:lnTo>
                  <a:pt x="706" y="1660"/>
                </a:lnTo>
                <a:lnTo>
                  <a:pt x="828" y="1706"/>
                </a:lnTo>
                <a:lnTo>
                  <a:pt x="956" y="1746"/>
                </a:lnTo>
                <a:lnTo>
                  <a:pt x="1092" y="1782"/>
                </a:lnTo>
                <a:lnTo>
                  <a:pt x="1234" y="1814"/>
                </a:lnTo>
                <a:lnTo>
                  <a:pt x="1382" y="1840"/>
                </a:lnTo>
                <a:lnTo>
                  <a:pt x="1534" y="1860"/>
                </a:lnTo>
                <a:lnTo>
                  <a:pt x="1692" y="1876"/>
                </a:lnTo>
                <a:lnTo>
                  <a:pt x="1854" y="1884"/>
                </a:lnTo>
                <a:lnTo>
                  <a:pt x="2020" y="1888"/>
                </a:lnTo>
                <a:lnTo>
                  <a:pt x="2186" y="1884"/>
                </a:lnTo>
                <a:lnTo>
                  <a:pt x="2348" y="1876"/>
                </a:lnTo>
                <a:lnTo>
                  <a:pt x="2506" y="1860"/>
                </a:lnTo>
                <a:lnTo>
                  <a:pt x="2658" y="1840"/>
                </a:lnTo>
                <a:lnTo>
                  <a:pt x="2806" y="1814"/>
                </a:lnTo>
                <a:lnTo>
                  <a:pt x="2948" y="1782"/>
                </a:lnTo>
                <a:lnTo>
                  <a:pt x="3084" y="1746"/>
                </a:lnTo>
                <a:lnTo>
                  <a:pt x="3212" y="1706"/>
                </a:lnTo>
                <a:lnTo>
                  <a:pt x="3334" y="1660"/>
                </a:lnTo>
                <a:lnTo>
                  <a:pt x="3448" y="1612"/>
                </a:lnTo>
                <a:lnTo>
                  <a:pt x="3554" y="1558"/>
                </a:lnTo>
                <a:lnTo>
                  <a:pt x="3650" y="1502"/>
                </a:lnTo>
                <a:lnTo>
                  <a:pt x="3738" y="1442"/>
                </a:lnTo>
                <a:lnTo>
                  <a:pt x="3814" y="1378"/>
                </a:lnTo>
                <a:lnTo>
                  <a:pt x="3882" y="1312"/>
                </a:lnTo>
                <a:lnTo>
                  <a:pt x="3938" y="1242"/>
                </a:lnTo>
                <a:lnTo>
                  <a:pt x="3982" y="1170"/>
                </a:lnTo>
                <a:lnTo>
                  <a:pt x="4014" y="1098"/>
                </a:lnTo>
                <a:lnTo>
                  <a:pt x="4034" y="1022"/>
                </a:lnTo>
                <a:lnTo>
                  <a:pt x="4040" y="944"/>
                </a:lnTo>
                <a:lnTo>
                  <a:pt x="4034" y="866"/>
                </a:lnTo>
                <a:lnTo>
                  <a:pt x="4014" y="790"/>
                </a:lnTo>
                <a:lnTo>
                  <a:pt x="3982" y="718"/>
                </a:lnTo>
                <a:lnTo>
                  <a:pt x="3938" y="646"/>
                </a:lnTo>
                <a:lnTo>
                  <a:pt x="3882" y="576"/>
                </a:lnTo>
                <a:lnTo>
                  <a:pt x="3814" y="510"/>
                </a:lnTo>
                <a:lnTo>
                  <a:pt x="3738" y="446"/>
                </a:lnTo>
                <a:lnTo>
                  <a:pt x="3650" y="386"/>
                </a:lnTo>
                <a:lnTo>
                  <a:pt x="3554" y="330"/>
                </a:lnTo>
                <a:lnTo>
                  <a:pt x="3448" y="276"/>
                </a:lnTo>
                <a:lnTo>
                  <a:pt x="3334" y="228"/>
                </a:lnTo>
                <a:lnTo>
                  <a:pt x="3212" y="182"/>
                </a:lnTo>
                <a:lnTo>
                  <a:pt x="3084" y="142"/>
                </a:lnTo>
                <a:lnTo>
                  <a:pt x="2948" y="106"/>
                </a:lnTo>
                <a:lnTo>
                  <a:pt x="2806" y="74"/>
                </a:lnTo>
                <a:lnTo>
                  <a:pt x="2658" y="48"/>
                </a:lnTo>
                <a:lnTo>
                  <a:pt x="2506" y="28"/>
                </a:lnTo>
                <a:lnTo>
                  <a:pt x="2348" y="12"/>
                </a:lnTo>
                <a:lnTo>
                  <a:pt x="2186" y="4"/>
                </a:lnTo>
                <a:lnTo>
                  <a:pt x="2020" y="0"/>
                </a:lnTo>
                <a:close/>
                <a:moveTo>
                  <a:pt x="1922" y="1748"/>
                </a:moveTo>
                <a:lnTo>
                  <a:pt x="1762" y="1746"/>
                </a:lnTo>
                <a:lnTo>
                  <a:pt x="1606" y="1736"/>
                </a:lnTo>
                <a:lnTo>
                  <a:pt x="1454" y="1722"/>
                </a:lnTo>
                <a:lnTo>
                  <a:pt x="1306" y="1702"/>
                </a:lnTo>
                <a:lnTo>
                  <a:pt x="1164" y="1678"/>
                </a:lnTo>
                <a:lnTo>
                  <a:pt x="1028" y="1648"/>
                </a:lnTo>
                <a:lnTo>
                  <a:pt x="898" y="1614"/>
                </a:lnTo>
                <a:lnTo>
                  <a:pt x="776" y="1576"/>
                </a:lnTo>
                <a:lnTo>
                  <a:pt x="662" y="1532"/>
                </a:lnTo>
                <a:lnTo>
                  <a:pt x="554" y="1486"/>
                </a:lnTo>
                <a:lnTo>
                  <a:pt x="458" y="1436"/>
                </a:lnTo>
                <a:lnTo>
                  <a:pt x="370" y="1382"/>
                </a:lnTo>
                <a:lnTo>
                  <a:pt x="292" y="1326"/>
                </a:lnTo>
                <a:lnTo>
                  <a:pt x="224" y="1266"/>
                </a:lnTo>
                <a:lnTo>
                  <a:pt x="166" y="1204"/>
                </a:lnTo>
                <a:lnTo>
                  <a:pt x="122" y="1140"/>
                </a:lnTo>
                <a:lnTo>
                  <a:pt x="88" y="1074"/>
                </a:lnTo>
                <a:lnTo>
                  <a:pt x="68" y="1004"/>
                </a:lnTo>
                <a:lnTo>
                  <a:pt x="62" y="934"/>
                </a:lnTo>
                <a:lnTo>
                  <a:pt x="68" y="864"/>
                </a:lnTo>
                <a:lnTo>
                  <a:pt x="88" y="796"/>
                </a:lnTo>
                <a:lnTo>
                  <a:pt x="122" y="730"/>
                </a:lnTo>
                <a:lnTo>
                  <a:pt x="166" y="664"/>
                </a:lnTo>
                <a:lnTo>
                  <a:pt x="224" y="602"/>
                </a:lnTo>
                <a:lnTo>
                  <a:pt x="292" y="544"/>
                </a:lnTo>
                <a:lnTo>
                  <a:pt x="370" y="486"/>
                </a:lnTo>
                <a:lnTo>
                  <a:pt x="458" y="434"/>
                </a:lnTo>
                <a:lnTo>
                  <a:pt x="554" y="382"/>
                </a:lnTo>
                <a:lnTo>
                  <a:pt x="662" y="336"/>
                </a:lnTo>
                <a:lnTo>
                  <a:pt x="776" y="294"/>
                </a:lnTo>
                <a:lnTo>
                  <a:pt x="898" y="256"/>
                </a:lnTo>
                <a:lnTo>
                  <a:pt x="1028" y="222"/>
                </a:lnTo>
                <a:lnTo>
                  <a:pt x="1164" y="192"/>
                </a:lnTo>
                <a:lnTo>
                  <a:pt x="1306" y="166"/>
                </a:lnTo>
                <a:lnTo>
                  <a:pt x="1454" y="148"/>
                </a:lnTo>
                <a:lnTo>
                  <a:pt x="1606" y="132"/>
                </a:lnTo>
                <a:lnTo>
                  <a:pt x="1762" y="124"/>
                </a:lnTo>
                <a:lnTo>
                  <a:pt x="1922" y="120"/>
                </a:lnTo>
                <a:lnTo>
                  <a:pt x="2084" y="124"/>
                </a:lnTo>
                <a:lnTo>
                  <a:pt x="2240" y="132"/>
                </a:lnTo>
                <a:lnTo>
                  <a:pt x="2392" y="148"/>
                </a:lnTo>
                <a:lnTo>
                  <a:pt x="2540" y="166"/>
                </a:lnTo>
                <a:lnTo>
                  <a:pt x="2682" y="192"/>
                </a:lnTo>
                <a:lnTo>
                  <a:pt x="2818" y="222"/>
                </a:lnTo>
                <a:lnTo>
                  <a:pt x="2948" y="256"/>
                </a:lnTo>
                <a:lnTo>
                  <a:pt x="3070" y="294"/>
                </a:lnTo>
                <a:lnTo>
                  <a:pt x="3184" y="336"/>
                </a:lnTo>
                <a:lnTo>
                  <a:pt x="3292" y="382"/>
                </a:lnTo>
                <a:lnTo>
                  <a:pt x="3388" y="434"/>
                </a:lnTo>
                <a:lnTo>
                  <a:pt x="3476" y="486"/>
                </a:lnTo>
                <a:lnTo>
                  <a:pt x="3554" y="544"/>
                </a:lnTo>
                <a:lnTo>
                  <a:pt x="3622" y="602"/>
                </a:lnTo>
                <a:lnTo>
                  <a:pt x="3680" y="664"/>
                </a:lnTo>
                <a:lnTo>
                  <a:pt x="3724" y="730"/>
                </a:lnTo>
                <a:lnTo>
                  <a:pt x="3758" y="796"/>
                </a:lnTo>
                <a:lnTo>
                  <a:pt x="3778" y="864"/>
                </a:lnTo>
                <a:lnTo>
                  <a:pt x="3784" y="934"/>
                </a:lnTo>
                <a:lnTo>
                  <a:pt x="3778" y="1004"/>
                </a:lnTo>
                <a:lnTo>
                  <a:pt x="3758" y="1074"/>
                </a:lnTo>
                <a:lnTo>
                  <a:pt x="3724" y="1140"/>
                </a:lnTo>
                <a:lnTo>
                  <a:pt x="3680" y="1204"/>
                </a:lnTo>
                <a:lnTo>
                  <a:pt x="3622" y="1266"/>
                </a:lnTo>
                <a:lnTo>
                  <a:pt x="3554" y="1326"/>
                </a:lnTo>
                <a:lnTo>
                  <a:pt x="3476" y="1382"/>
                </a:lnTo>
                <a:lnTo>
                  <a:pt x="3388" y="1436"/>
                </a:lnTo>
                <a:lnTo>
                  <a:pt x="3292" y="1486"/>
                </a:lnTo>
                <a:lnTo>
                  <a:pt x="3184" y="1532"/>
                </a:lnTo>
                <a:lnTo>
                  <a:pt x="3070" y="1576"/>
                </a:lnTo>
                <a:lnTo>
                  <a:pt x="2948" y="1614"/>
                </a:lnTo>
                <a:lnTo>
                  <a:pt x="2818" y="1648"/>
                </a:lnTo>
                <a:lnTo>
                  <a:pt x="2682" y="1678"/>
                </a:lnTo>
                <a:lnTo>
                  <a:pt x="2540" y="1702"/>
                </a:lnTo>
                <a:lnTo>
                  <a:pt x="2392" y="1722"/>
                </a:lnTo>
                <a:lnTo>
                  <a:pt x="2240" y="1736"/>
                </a:lnTo>
                <a:lnTo>
                  <a:pt x="2084" y="1746"/>
                </a:lnTo>
                <a:lnTo>
                  <a:pt x="1922" y="1748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dedede">
                  <a:alpha val="36078"/>
                </a:srgbClr>
              </a:gs>
            </a:gsLst>
            <a:lin ang="1215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8" name=""/>
          <p:cNvSpPr/>
          <p:nvPr/>
        </p:nvSpPr>
        <p:spPr>
          <a:xfrm>
            <a:off x="4284720" y="1844640"/>
            <a:ext cx="1143000" cy="1101600"/>
          </a:xfrm>
          <a:prstGeom prst="ellipse">
            <a:avLst/>
          </a:prstGeom>
          <a:gradFill rotWithShape="0">
            <a:gsLst>
              <a:gs pos="0">
                <a:srgbClr val="ffcc66"/>
              </a:gs>
              <a:gs pos="100000">
                <a:srgbClr val="57462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9" name=""/>
          <p:cNvSpPr/>
          <p:nvPr/>
        </p:nvSpPr>
        <p:spPr>
          <a:xfrm>
            <a:off x="1547640" y="4437000"/>
            <a:ext cx="1141560" cy="1101960"/>
          </a:xfrm>
          <a:prstGeom prst="ellipse">
            <a:avLst/>
          </a:prstGeom>
          <a:gradFill rotWithShape="0">
            <a:gsLst>
              <a:gs pos="0">
                <a:srgbClr val="d26f5e"/>
              </a:gs>
              <a:gs pos="100000">
                <a:srgbClr val="41221d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0" name=""/>
          <p:cNvSpPr/>
          <p:nvPr/>
        </p:nvSpPr>
        <p:spPr>
          <a:xfrm>
            <a:off x="5869080" y="429264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353535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1" name=""/>
          <p:cNvSpPr/>
          <p:nvPr/>
        </p:nvSpPr>
        <p:spPr>
          <a:xfrm>
            <a:off x="6948360" y="1989000"/>
            <a:ext cx="1079640" cy="1103400"/>
          </a:xfrm>
          <a:prstGeom prst="ellipse">
            <a:avLst/>
          </a:prstGeom>
          <a:gradFill rotWithShape="0">
            <a:gsLst>
              <a:gs pos="0">
                <a:srgbClr val="51afb9"/>
              </a:gs>
              <a:gs pos="100000">
                <a:srgbClr val="1b3c3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2" name=""/>
          <p:cNvSpPr/>
          <p:nvPr/>
        </p:nvSpPr>
        <p:spPr>
          <a:xfrm>
            <a:off x="1692360" y="4653000"/>
            <a:ext cx="92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자원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3" name=""/>
          <p:cNvSpPr/>
          <p:nvPr/>
        </p:nvSpPr>
        <p:spPr>
          <a:xfrm>
            <a:off x="4429080" y="1989000"/>
            <a:ext cx="107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강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관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4" name=""/>
          <p:cNvSpPr/>
          <p:nvPr/>
        </p:nvSpPr>
        <p:spPr>
          <a:xfrm>
            <a:off x="6012000" y="4508640"/>
            <a:ext cx="8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주체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5" name=""/>
          <p:cNvSpPr/>
          <p:nvPr/>
        </p:nvSpPr>
        <p:spPr>
          <a:xfrm>
            <a:off x="3178080" y="53006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Verdana"/>
                <a:ea typeface="HY견고딕"/>
              </a:rPr>
              <a:t>칭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6" name=""/>
          <p:cNvSpPr/>
          <p:nvPr/>
        </p:nvSpPr>
        <p:spPr>
          <a:xfrm>
            <a:off x="7093080" y="2060640"/>
            <a:ext cx="107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이용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Verdana"/>
                <a:ea typeface="HY견고딕"/>
              </a:rPr>
              <a:t>중심의 서비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7" name=""/>
          <p:cNvSpPr/>
          <p:nvPr/>
        </p:nvSpPr>
        <p:spPr>
          <a:xfrm>
            <a:off x="3708360" y="3284640"/>
            <a:ext cx="2376360" cy="1152360"/>
          </a:xfrm>
          <a:prstGeom prst="ellipse">
            <a:avLst/>
          </a:prstGeom>
          <a:gradFill rotWithShape="0">
            <a:gsLst>
              <a:gs pos="0">
                <a:srgbClr val="ccecff">
                  <a:alpha val="60392"/>
                </a:srgbClr>
              </a:gs>
              <a:gs pos="50000">
                <a:srgbClr val="ffffff">
                  <a:alpha val="80392"/>
                </a:srgbClr>
              </a:gs>
              <a:gs pos="100000">
                <a:srgbClr val="ccecff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희망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지원사업 특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8" name=""/>
          <p:cNvSpPr/>
          <p:nvPr/>
        </p:nvSpPr>
        <p:spPr>
          <a:xfrm>
            <a:off x="3780000" y="5229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비공식자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ffffff"/>
                </a:solidFill>
                <a:latin typeface="Arial"/>
                <a:ea typeface="HY견고딕"/>
              </a:rPr>
              <a:t>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9" name=""/>
          <p:cNvSpPr/>
          <p:nvPr/>
        </p:nvSpPr>
        <p:spPr>
          <a:xfrm>
            <a:off x="2195640" y="2565360"/>
            <a:ext cx="1141200" cy="1101600"/>
          </a:xfrm>
          <a:prstGeom prst="ellipse">
            <a:avLst/>
          </a:prstGeom>
          <a:gradFill rotWithShape="0">
            <a:gsLst>
              <a:gs pos="0">
                <a:srgbClr val="800080"/>
              </a:gs>
              <a:gs pos="100000">
                <a:srgbClr val="280028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0" name=""/>
          <p:cNvSpPr/>
          <p:nvPr/>
        </p:nvSpPr>
        <p:spPr>
          <a:xfrm>
            <a:off x="2195640" y="2708280"/>
            <a:ext cx="106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네트워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0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3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3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3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4" name=""/>
          <p:cNvSpPr/>
          <p:nvPr/>
        </p:nvSpPr>
        <p:spPr>
          <a:xfrm>
            <a:off x="3414240" y="1268280"/>
            <a:ext cx="330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1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실무자들이 인식한 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5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6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7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8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9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0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1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52" name=""/>
          <p:cNvGraphicFramePr/>
          <p:nvPr/>
        </p:nvGraphicFramePr>
        <p:xfrm>
          <a:off x="755640" y="2060640"/>
          <a:ext cx="7786440" cy="3262320"/>
        </p:xfrm>
        <a:graphic>
          <a:graphicData uri="http://schemas.openxmlformats.org/drawingml/2006/table">
            <a:tbl>
              <a:tblPr/>
              <a:tblGrid>
                <a:gridCol w="3894120"/>
                <a:gridCol w="3892320"/>
              </a:tblGrid>
              <a:tr h="740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52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관점 실천접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 네트워크 활용과 구축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이고 개별화된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탄력적 운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낮은 사업인지도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프로젝트사업으로 인한 제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내용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 내 자원부족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/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기관과의 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성격차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례관리 집중의 어려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4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5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6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2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개인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1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3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64" name=""/>
          <p:cNvGraphicFramePr/>
          <p:nvPr/>
        </p:nvGraphicFramePr>
        <p:xfrm>
          <a:off x="755640" y="2060640"/>
          <a:ext cx="7786800" cy="316872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421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포괄적 통합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집중적인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자원망 구축과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와 참여자간의 관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인력확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지역사회 자원 활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속적 사례관리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부모의 역할참여 촉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연계자원과의 적절한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사업홍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0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1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기존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1" name=""/>
          <p:cNvSpPr/>
          <p:nvPr/>
        </p:nvSpPr>
        <p:spPr>
          <a:xfrm>
            <a:off x="1187280" y="1844640"/>
            <a:ext cx="6985080" cy="46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서비스만족도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평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3/4.0=8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가족을 대하는 실무자의 태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6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관을 추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전반적인 만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3.5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d01608"/>
                </a:solidFill>
                <a:latin typeface="Arial"/>
                <a:ea typeface="HY견명조"/>
              </a:rPr>
              <a:t>대부분의 욕구 해결</a:t>
            </a:r>
            <a:r>
              <a:rPr b="0" lang="en-US" sz="2000" spc="-1" strike="noStrike">
                <a:solidFill>
                  <a:srgbClr val="d01608"/>
                </a:solidFill>
                <a:latin typeface="Arial"/>
                <a:ea typeface="HY견명조"/>
              </a:rPr>
              <a:t>(3.1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d0160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7" name=""/>
          <p:cNvSpPr/>
          <p:nvPr/>
        </p:nvSpPr>
        <p:spPr>
          <a:xfrm>
            <a:off x="2403720" y="476280"/>
            <a:ext cx="132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사업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8" name=""/>
          <p:cNvSpPr/>
          <p:nvPr/>
        </p:nvSpPr>
        <p:spPr>
          <a:xfrm>
            <a:off x="2867040" y="1268280"/>
            <a:ext cx="440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3) 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조직연계자원이 인식한 사업의 강점과 약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보완점</a:t>
            </a:r>
            <a:r>
              <a:rPr b="0" lang="en-US" sz="2000" spc="-1" strike="noStrike">
                <a:solidFill>
                  <a:srgbClr val="000000"/>
                </a:solidFill>
                <a:latin typeface="HY견명조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9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0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1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2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3" name=""/>
          <p:cNvSpPr/>
          <p:nvPr/>
        </p:nvSpPr>
        <p:spPr>
          <a:xfrm>
            <a:off x="-1244520" y="255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4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5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의 강점과 약점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76" name=""/>
          <p:cNvGraphicFramePr/>
          <p:nvPr/>
        </p:nvGraphicFramePr>
        <p:xfrm>
          <a:off x="755640" y="2060640"/>
          <a:ext cx="7786800" cy="3622680"/>
        </p:xfrm>
        <a:graphic>
          <a:graphicData uri="http://schemas.openxmlformats.org/drawingml/2006/table">
            <a:tbl>
              <a:tblPr/>
              <a:tblGrid>
                <a:gridCol w="3894120"/>
                <a:gridCol w="3892680"/>
              </a:tblGrid>
              <a:tr h="64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강점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약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(</a:t>
                      </a: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보완점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2976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한 자원망 구축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가족기반의 통합적 아동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실무자들의 자질과 역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 주도적 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맞춤서비스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접근성이 좋은 센터의 위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전문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슈퍼비젼 체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지역사회관련 기관과 파트너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확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희망센터 역할에 대한 이해부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서비스의 안정성과 지속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다양하고 전문적인 서비스 개발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000" spc="-1" strike="noStrike">
                          <a:solidFill>
                            <a:srgbClr val="000000"/>
                          </a:solidFill>
                          <a:latin typeface="HY견명조"/>
                          <a:ea typeface="HY견명조"/>
                        </a:rPr>
                        <a:t>내담자의 다양한 참여기회제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000000"/>
                        </a:buClr>
                        <a:buSzPct val="80000"/>
                        <a:buFont typeface="HY견명조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ccff66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8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9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0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1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2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3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4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5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6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988" name=""/>
          <p:cNvGraphicFramePr/>
          <p:nvPr/>
        </p:nvGraphicFramePr>
        <p:xfrm>
          <a:off x="755640" y="1844640"/>
          <a:ext cx="7848720" cy="3443400"/>
        </p:xfrm>
        <a:graphic>
          <a:graphicData uri="http://schemas.openxmlformats.org/drawingml/2006/table">
            <a:tbl>
              <a:tblPr/>
              <a:tblGrid>
                <a:gridCol w="458640"/>
                <a:gridCol w="1125720"/>
                <a:gridCol w="1079640"/>
                <a:gridCol w="792000"/>
                <a:gridCol w="720720"/>
                <a:gridCol w="863640"/>
                <a:gridCol w="1008000"/>
                <a:gridCol w="936720"/>
                <a:gridCol w="863640"/>
              </a:tblGrid>
              <a:tr h="79236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아동빈곤율과 빈곤아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단위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명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94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8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미만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아동 인구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전체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 빈곤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16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율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절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상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수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50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7,849,2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4,176,4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8.5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5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979,8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,718,7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358,3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628,5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6120">
                <a:tc gridSpan="9"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연령별 추계인구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통계청 홈페이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7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        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김미숙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사회 빈곤아동 지원정책 고찰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보건복지포럼」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국보건사회연구원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, 2006. 4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8" name=""/>
          <p:cNvSpPr/>
          <p:nvPr/>
        </p:nvSpPr>
        <p:spPr>
          <a:xfrm>
            <a:off x="2556000" y="907920"/>
            <a:ext cx="33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표적시장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0" name=""/>
          <p:cNvSpPr/>
          <p:nvPr/>
        </p:nvSpPr>
        <p:spPr>
          <a:xfrm>
            <a:off x="755640" y="1773360"/>
            <a:ext cx="7272360" cy="39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계층의 규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2003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년 기준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최저생계비의 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20% </a:t>
            </a:r>
            <a:r>
              <a:rPr b="1" lang="ko-KR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이하</a:t>
            </a:r>
            <a:r>
              <a:rPr b="1" lang="en-US" sz="16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8.6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284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/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 인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15.1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71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차상위 아동가구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전체 가구의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6.3%(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약 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96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 가구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242</a:t>
            </a:r>
            <a:r>
              <a:rPr b="1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만명</a:t>
            </a:r>
            <a:r>
              <a:rPr b="1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2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3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4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5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6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7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8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9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0" name=""/>
          <p:cNvSpPr/>
          <p:nvPr/>
        </p:nvSpPr>
        <p:spPr>
          <a:xfrm>
            <a:off x="2556000" y="907920"/>
            <a:ext cx="43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빈곤아동 관련 주요 사회복지 정책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1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2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13" name=""/>
          <p:cNvGraphicFramePr/>
          <p:nvPr/>
        </p:nvGraphicFramePr>
        <p:xfrm>
          <a:off x="1258920" y="1773360"/>
          <a:ext cx="6696000" cy="4109760"/>
        </p:xfrm>
        <a:graphic>
          <a:graphicData uri="http://schemas.openxmlformats.org/drawingml/2006/table">
            <a:tbl>
              <a:tblPr/>
              <a:tblGrid>
                <a:gridCol w="1155600"/>
                <a:gridCol w="1155600"/>
                <a:gridCol w="1155960"/>
                <a:gridCol w="322884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부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구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사업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solidFill>
                      <a:srgbClr val="ffe5ff"/>
                    </a:solidFill>
                  </a:tcPr>
                </a:tc>
              </a:tr>
              <a:tr h="368280"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7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복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소년소녀가정지원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보육료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급식 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아동발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계좌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민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원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지역아동센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저소득층학생 수능공부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인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자원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8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교육복지 투자우선지역 시범사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6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7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8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9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0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1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2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3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4" name=""/>
          <p:cNvSpPr/>
          <p:nvPr/>
        </p:nvSpPr>
        <p:spPr>
          <a:xfrm>
            <a:off x="2556000" y="907920"/>
            <a:ext cx="5688000" cy="7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스타트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교육복지투자우선지역</a:t>
            </a:r>
            <a:r>
              <a:rPr b="0" lang="en-US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휴먼명조"/>
                <a:ea typeface="휴먼명조"/>
              </a:rPr>
              <a:t>희망네트워크 지원사업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5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6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7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8" name=""/>
          <p:cNvSpPr/>
          <p:nvPr/>
        </p:nvSpPr>
        <p:spPr>
          <a:xfrm>
            <a:off x="1187280" y="2060640"/>
            <a:ext cx="6985080" cy="27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유사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저소득층 아동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추진전략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지역사회 아동보호체계 구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내용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통합서비스 제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복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문화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보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목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2" name=""/>
          <p:cNvSpPr/>
          <p:nvPr/>
        </p:nvSpPr>
        <p:spPr>
          <a:xfrm>
            <a:off x="0" y="2355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43" name=""/>
          <p:cNvGraphicFramePr/>
          <p:nvPr/>
        </p:nvGraphicFramePr>
        <p:xfrm>
          <a:off x="755640" y="1916280"/>
          <a:ext cx="7776720" cy="4104720"/>
        </p:xfrm>
        <a:graphic>
          <a:graphicData uri="http://schemas.openxmlformats.org/drawingml/2006/table">
            <a:tbl>
              <a:tblPr/>
              <a:tblGrid>
                <a:gridCol w="997920"/>
                <a:gridCol w="2259360"/>
                <a:gridCol w="2260440"/>
                <a:gridCol w="2259000"/>
              </a:tblGrid>
              <a:tr h="93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13381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목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층 아동의 인적자본 개발을 통한 빈곤대물림차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력증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문화적 욕구충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원망 구축을 통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격차 해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내 지속적 아동보호기반 마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체계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변화에 역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3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추진전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보건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복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학교중심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교육공동체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이용자중심의 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적 자원망 강조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6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대상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7" name=""/>
          <p:cNvSpPr/>
          <p:nvPr/>
        </p:nvSpPr>
        <p:spPr>
          <a:xfrm>
            <a:off x="0" y="2362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58" name=""/>
          <p:cNvGraphicFramePr/>
          <p:nvPr/>
        </p:nvGraphicFramePr>
        <p:xfrm>
          <a:off x="826920" y="1197000"/>
          <a:ext cx="7561080" cy="4320360"/>
        </p:xfrm>
        <a:graphic>
          <a:graphicData uri="http://schemas.openxmlformats.org/drawingml/2006/table">
            <a:tbl>
              <a:tblPr/>
              <a:tblGrid>
                <a:gridCol w="2576880"/>
                <a:gridCol w="2576160"/>
                <a:gridCol w="1203840"/>
                <a:gridCol w="1204200"/>
              </a:tblGrid>
              <a:tr h="9867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0~6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유아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초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13~19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중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고등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4544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빈곤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학대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조손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한부모가정 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연령제한은 없으나 현재 서비스이용아동의 연령이 주로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7~12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세로 나타남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d2d2d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8640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+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차상위계층 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2b2b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03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국민기초수급 대상아동이 주대상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9999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1" name=""/>
          <p:cNvSpPr/>
          <p:nvPr/>
        </p:nvSpPr>
        <p:spPr>
          <a:xfrm>
            <a:off x="2220840" y="476280"/>
            <a:ext cx="16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외부환경분석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3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유사서비스와의 비교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사업성과 영역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6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2" name=""/>
          <p:cNvSpPr/>
          <p:nvPr/>
        </p:nvSpPr>
        <p:spPr>
          <a:xfrm>
            <a:off x="0" y="19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3" name=""/>
          <p:cNvGraphicFramePr/>
          <p:nvPr/>
        </p:nvGraphicFramePr>
        <p:xfrm>
          <a:off x="1042920" y="1628640"/>
          <a:ext cx="7416720" cy="4971960"/>
        </p:xfrm>
        <a:graphic>
          <a:graphicData uri="http://schemas.openxmlformats.org/drawingml/2006/table">
            <a:tbl>
              <a:tblPr/>
              <a:tblGrid>
                <a:gridCol w="725400"/>
                <a:gridCol w="1912320"/>
                <a:gridCol w="2016360"/>
                <a:gridCol w="2762640"/>
              </a:tblGrid>
              <a:tr h="758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희망스타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복지투자우선지역 지원사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우리아이 희망네트워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6d6d6"/>
                    </a:solidFill>
                  </a:tcPr>
                </a:tc>
              </a:tr>
              <a:tr h="3365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업성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영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의 건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정환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와 가정요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부모의 심리적 상태 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기능과 아동양육방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성취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사회정서적 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생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업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정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일상생활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교육활동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조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지역네트워크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학교위상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역할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영향 및 결과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아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기효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학교적응유연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기능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생활만족도 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자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연계활동내역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질적수준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지역유형별 특성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HCI Poppy"/>
                          <a:ea typeface="휴먼명조"/>
                        </a:rPr>
                        <a:t>실무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가족중심실천정도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능력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자존감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강점실천원리에 대한 이해</a:t>
                      </a:r>
                      <a:r>
                        <a:rPr b="0" lang="en-US" sz="1600" spc="-1" strike="noStrike">
                          <a:solidFill>
                            <a:srgbClr val="282828"/>
                          </a:solidFill>
                          <a:latin typeface="Arial"/>
                          <a:ea typeface="휴먼명조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816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: a)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희망스타트의 경우 아직 평가연구된 것이 없는 관계로 이봉주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(2007)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「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2006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년 경기도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We start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마을 사업효과성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·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효율성 평가보고서 요약본」의 내용을 활용함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6" name=""/>
          <p:cNvSpPr/>
          <p:nvPr/>
        </p:nvSpPr>
        <p:spPr>
          <a:xfrm>
            <a:off x="20905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7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8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9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0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1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2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3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1) SWOT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분석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4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5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6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7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88" name=""/>
          <p:cNvGraphicFramePr/>
          <p:nvPr/>
        </p:nvGraphicFramePr>
        <p:xfrm>
          <a:off x="826920" y="981000"/>
          <a:ext cx="7561440" cy="5446800"/>
        </p:xfrm>
        <a:graphic>
          <a:graphicData uri="http://schemas.openxmlformats.org/drawingml/2006/table">
            <a:tbl>
              <a:tblPr/>
              <a:tblGrid>
                <a:gridCol w="3645000"/>
                <a:gridCol w="3916440"/>
              </a:tblGrid>
              <a:tr h="43956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약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77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강점관점 실천접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공식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비공식자원활용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네트워크 구축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서비스대상과 내용의 포괄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이고 집중적인 사례관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개별화된 맞춤형서비스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탄력있는 운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능력과 자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사회 연계기관과의 긴밀한 파트너 쉽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구축이 아직 취약함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사업홍보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담당자의 잦은 변동 등으로 인한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안정성의 부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실무자들의 사례관리와 타 업무병행의 어려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지역적 취약성 등으로 인한 자원의 한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센터별 사업이해도와 역량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성과수준의 차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기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위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7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55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통합적 사례관리 필요성에 대한 사회적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공감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아동복지에 대한 국가적 투자로 복지총량의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확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7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빈곤아동을 대상으로 한 서비스 시장의 난립과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Arial"/>
                          <a:ea typeface="휴먼명조"/>
                        </a:rPr>
                        <a:t>서비스 중복문제의 가능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으로 인한 사업정체성과 명분의 혼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․</a:t>
                      </a:r>
                      <a:r>
                        <a:rPr b="0" lang="ko-KR" sz="1600" spc="-1" strike="noStrike">
                          <a:solidFill>
                            <a:srgbClr val="000000"/>
                          </a:solidFill>
                          <a:latin typeface="HCI Poppy"/>
                          <a:ea typeface="휴먼명조"/>
                        </a:rPr>
                        <a:t>유사사업과 차별성부각의 미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0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연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과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1" name=""/>
          <p:cNvSpPr/>
          <p:nvPr/>
        </p:nvSpPr>
        <p:spPr>
          <a:xfrm>
            <a:off x="2373120" y="476280"/>
            <a:ext cx="19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수립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2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3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4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5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6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7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8" name=""/>
          <p:cNvSpPr/>
          <p:nvPr/>
        </p:nvSpPr>
        <p:spPr>
          <a:xfrm>
            <a:off x="2556000" y="907920"/>
            <a:ext cx="568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고딕"/>
              </a:rPr>
              <a:t>2)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고딕"/>
              </a:rPr>
              <a:t>특성화 전략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9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0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1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2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3" name=""/>
          <p:cNvSpPr/>
          <p:nvPr/>
        </p:nvSpPr>
        <p:spPr>
          <a:xfrm>
            <a:off x="539640" y="1916280"/>
            <a:ext cx="7993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간기관의 강점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융통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유연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민감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접촉성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부각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서비스 이용자 중심의 비공식적 자원망 개발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활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실무자들의 전문성과 헌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사업의 질적 성장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"/>
          <p:cNvSpPr/>
          <p:nvPr/>
        </p:nvSpPr>
        <p:spPr>
          <a:xfrm>
            <a:off x="900000" y="476280"/>
            <a:ext cx="6696360" cy="1101600"/>
          </a:xfrm>
          <a:prstGeom prst="ellipse">
            <a:avLst/>
          </a:prstGeom>
          <a:solidFill>
            <a:srgbClr val="800000"/>
          </a:soli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과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HY견고딕"/>
              </a:rPr>
              <a:t>2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신규이용자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4" name=""/>
          <p:cNvSpPr/>
          <p:nvPr/>
        </p:nvSpPr>
        <p:spPr>
          <a:xfrm>
            <a:off x="1187280" y="1844640"/>
            <a:ext cx="6985080" cy="51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HY견고딕"/>
              </a:rPr>
              <a:t>일반특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HY견고딕"/>
              </a:rPr>
              <a:t>(n=126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사업대상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남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HY견명조"/>
              </a:rPr>
              <a:t>(60%), 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진행사례 중심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HY견명조"/>
              </a:rPr>
              <a:t>기존 이용자와 큰 차이 없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"/>
          <p:cNvSpPr/>
          <p:nvPr/>
        </p:nvSpPr>
        <p:spPr>
          <a:xfrm>
            <a:off x="0" y="6424560"/>
            <a:ext cx="9144000" cy="433440"/>
          </a:xfrm>
          <a:prstGeom prst="rect">
            <a:avLst/>
          </a:prstGeom>
          <a:gradFill rotWithShape="0">
            <a:gsLst>
              <a:gs pos="0">
                <a:srgbClr val="003658"/>
              </a:gs>
              <a:gs pos="50000">
                <a:srgbClr val="219ef3"/>
              </a:gs>
              <a:gs pos="100000">
                <a:srgbClr val="00365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                                   </a:t>
            </a:r>
            <a:r>
              <a:rPr b="0" lang="ko-KR" sz="1800" spc="-1" strike="noStrike">
                <a:solidFill>
                  <a:srgbClr val="ffffff"/>
                </a:solidFill>
                <a:latin typeface="휴먼엑스포"/>
                <a:ea typeface="휴먼엑스포"/>
              </a:rPr>
              <a:t>우리아이 희망네트워크 지원사업 평가연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5" name=""/>
          <p:cNvSpPr/>
          <p:nvPr/>
        </p:nvSpPr>
        <p:spPr>
          <a:xfrm>
            <a:off x="900000" y="476280"/>
            <a:ext cx="1141560" cy="1101600"/>
          </a:xfrm>
          <a:prstGeom prst="ellipse">
            <a:avLst/>
          </a:prstGeom>
          <a:gradFill rotWithShape="0">
            <a:gsLst>
              <a:gs pos="0">
                <a:srgbClr val="6164df"/>
              </a:gs>
              <a:gs pos="100000">
                <a:srgbClr val="22234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53753" dir="2700000" blurRad="0" rotWithShape="0">
              <a:srgbClr val="001d3a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HY견고딕"/>
              </a:rPr>
              <a:t>결론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6" name=""/>
          <p:cNvSpPr/>
          <p:nvPr/>
        </p:nvSpPr>
        <p:spPr>
          <a:xfrm>
            <a:off x="4859280" y="5013360"/>
            <a:ext cx="0" cy="3603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7" name=""/>
          <p:cNvSpPr/>
          <p:nvPr/>
        </p:nvSpPr>
        <p:spPr>
          <a:xfrm>
            <a:off x="5614920" y="65674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8" name=""/>
          <p:cNvSpPr/>
          <p:nvPr/>
        </p:nvSpPr>
        <p:spPr>
          <a:xfrm>
            <a:off x="-1244520" y="2436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9" name=""/>
          <p:cNvSpPr/>
          <p:nvPr/>
        </p:nvSpPr>
        <p:spPr>
          <a:xfrm>
            <a:off x="-1244520" y="442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0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1" name=""/>
          <p:cNvSpPr/>
          <p:nvPr/>
        </p:nvSpPr>
        <p:spPr>
          <a:xfrm>
            <a:off x="-1244520" y="430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2" name=""/>
          <p:cNvSpPr/>
          <p:nvPr/>
        </p:nvSpPr>
        <p:spPr>
          <a:xfrm>
            <a:off x="0" y="260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3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4" name=""/>
          <p:cNvSpPr/>
          <p:nvPr/>
        </p:nvSpPr>
        <p:spPr>
          <a:xfrm>
            <a:off x="0" y="46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5" name=""/>
          <p:cNvSpPr/>
          <p:nvPr/>
        </p:nvSpPr>
        <p:spPr>
          <a:xfrm>
            <a:off x="0" y="163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6" name=""/>
          <p:cNvSpPr/>
          <p:nvPr/>
        </p:nvSpPr>
        <p:spPr>
          <a:xfrm>
            <a:off x="539640" y="1916280"/>
            <a:ext cx="79930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지역사회 내 다양한 사회복지 자원들과 매개하여 유기적이고 협동적인 지역사회 보호체계를 만들어 나가는 것은 매우 의미있는 시도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희망네트워크 지원사업은 실천현장 경험에 기초한 연구를 통해 우리나라에서 강점관점에 기초한 지역사회 네트워크 구축과 통합적 사례관리의 실천 가능성을 확인하는 것임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조선일보명조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향후 변화하는 사회복지환경 속에서 적절한 대응과 전략수립이 요구됨</a:t>
            </a:r>
            <a:r>
              <a:rPr b="0" lang="en-US" sz="2400" spc="-1" strike="noStrike">
                <a:solidFill>
                  <a:srgbClr val="000000"/>
                </a:solidFill>
                <a:latin typeface="조선일보명조"/>
                <a:ea typeface="조선일보명조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7" name=""/>
          <p:cNvGrpSpPr/>
          <p:nvPr/>
        </p:nvGrpSpPr>
        <p:grpSpPr>
          <a:xfrm>
            <a:off x="1835280" y="2782800"/>
            <a:ext cx="5435640" cy="1150920"/>
            <a:chOff x="1835280" y="2782800"/>
            <a:chExt cx="5435640" cy="1150920"/>
          </a:xfrm>
        </p:grpSpPr>
        <p:grpSp>
          <p:nvGrpSpPr>
            <p:cNvPr id="1118" name=""/>
            <p:cNvGrpSpPr/>
            <p:nvPr/>
          </p:nvGrpSpPr>
          <p:grpSpPr>
            <a:xfrm>
              <a:off x="1835280" y="2997360"/>
              <a:ext cx="934920" cy="936360"/>
              <a:chOff x="1835280" y="2997360"/>
              <a:chExt cx="934920" cy="936360"/>
            </a:xfrm>
          </p:grpSpPr>
          <p:grpSp>
            <p:nvGrpSpPr>
              <p:cNvPr id="1119" name=""/>
              <p:cNvGrpSpPr/>
              <p:nvPr/>
            </p:nvGrpSpPr>
            <p:grpSpPr>
              <a:xfrm>
                <a:off x="1835280" y="2997360"/>
                <a:ext cx="934920" cy="936360"/>
                <a:chOff x="1835280" y="2997360"/>
                <a:chExt cx="934920" cy="936360"/>
              </a:xfrm>
            </p:grpSpPr>
            <p:sp>
              <p:nvSpPr>
                <p:cNvPr id="1120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1835280" y="2997360"/>
                  <a:ext cx="934920" cy="9363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164df"/>
                    </a:gs>
                    <a:gs pos="100000">
                      <a:srgbClr val="9092e7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1896480" y="3058560"/>
                  <a:ext cx="812520" cy="813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e306c"/>
                    </a:gs>
                    <a:gs pos="100000">
                      <a:srgbClr val="6164d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1937160" y="3099240"/>
                  <a:ext cx="731160" cy="732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c2e66"/>
                    </a:gs>
                    <a:gs pos="100000">
                      <a:srgbClr val="6164d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25" name=""/>
              <p:cNvSpPr/>
              <p:nvPr/>
            </p:nvSpPr>
            <p:spPr>
              <a:xfrm>
                <a:off x="2150280" y="328608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감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26" name=""/>
            <p:cNvGrpSpPr/>
            <p:nvPr/>
          </p:nvGrpSpPr>
          <p:grpSpPr>
            <a:xfrm>
              <a:off x="3924360" y="2924280"/>
              <a:ext cx="1079280" cy="1009080"/>
              <a:chOff x="3924360" y="2924280"/>
              <a:chExt cx="1079280" cy="1009080"/>
            </a:xfrm>
          </p:grpSpPr>
          <p:grpSp>
            <p:nvGrpSpPr>
              <p:cNvPr id="1127" name=""/>
              <p:cNvGrpSpPr/>
              <p:nvPr/>
            </p:nvGrpSpPr>
            <p:grpSpPr>
              <a:xfrm>
                <a:off x="3924360" y="2924280"/>
                <a:ext cx="1079280" cy="1009080"/>
                <a:chOff x="3924360" y="2924280"/>
                <a:chExt cx="1079280" cy="1009080"/>
              </a:xfrm>
            </p:grpSpPr>
            <p:sp>
              <p:nvSpPr>
                <p:cNvPr id="1128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d26f5e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29" name=""/>
                <p:cNvSpPr/>
                <p:nvPr/>
              </p:nvSpPr>
              <p:spPr>
                <a:xfrm>
                  <a:off x="3924360" y="2924280"/>
                  <a:ext cx="1079280" cy="1009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26f5e"/>
                    </a:gs>
                    <a:gs pos="100000">
                      <a:srgbClr val="e4aba2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13b32"/>
                    </a:gs>
                    <a:gs pos="50000">
                      <a:srgbClr val="d26f5e"/>
                    </a:gs>
                    <a:gs pos="100000">
                      <a:srgbClr val="713b32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1" name=""/>
                <p:cNvSpPr/>
                <p:nvPr/>
              </p:nvSpPr>
              <p:spPr>
                <a:xfrm>
                  <a:off x="3994920" y="2990160"/>
                  <a:ext cx="937800" cy="87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5352d"/>
                    </a:gs>
                    <a:gs pos="100000">
                      <a:srgbClr val="d26f5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2" name=""/>
                <p:cNvSpPr/>
                <p:nvPr/>
              </p:nvSpPr>
              <p:spPr>
                <a:xfrm>
                  <a:off x="4041720" y="3034080"/>
                  <a:ext cx="844200" cy="78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0332b"/>
                    </a:gs>
                    <a:gs pos="100000">
                      <a:srgbClr val="d26f5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33" name=""/>
              <p:cNvSpPr/>
              <p:nvPr/>
            </p:nvSpPr>
            <p:spPr>
              <a:xfrm>
                <a:off x="4312440" y="321516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합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2843280" y="2924280"/>
              <a:ext cx="1008000" cy="1008000"/>
              <a:chOff x="2843280" y="2924280"/>
              <a:chExt cx="1008000" cy="1008000"/>
            </a:xfrm>
          </p:grpSpPr>
          <p:grpSp>
            <p:nvGrpSpPr>
              <p:cNvPr id="1135" name=""/>
              <p:cNvGrpSpPr/>
              <p:nvPr/>
            </p:nvGrpSpPr>
            <p:grpSpPr>
              <a:xfrm>
                <a:off x="2843280" y="2924280"/>
                <a:ext cx="1008000" cy="1008000"/>
                <a:chOff x="2843280" y="2924280"/>
                <a:chExt cx="1008000" cy="1008000"/>
              </a:xfrm>
            </p:grpSpPr>
            <p:sp>
              <p:nvSpPr>
                <p:cNvPr id="1136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efefe"/>
                    </a:gs>
                    <a:gs pos="50000">
                      <a:srgbClr val="ffcc66"/>
                    </a:gs>
                    <a:gs pos="100000">
                      <a:srgbClr val="fefefe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7" name=""/>
                <p:cNvSpPr/>
                <p:nvPr/>
              </p:nvSpPr>
              <p:spPr>
                <a:xfrm>
                  <a:off x="2843280" y="2924280"/>
                  <a:ext cx="100800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cc66"/>
                    </a:gs>
                    <a:gs pos="100000">
                      <a:srgbClr val="feda93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8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96d36"/>
                    </a:gs>
                    <a:gs pos="50000">
                      <a:srgbClr val="ffcc66"/>
                    </a:gs>
                    <a:gs pos="100000">
                      <a:srgbClr val="896d36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39" name=""/>
                <p:cNvSpPr/>
                <p:nvPr/>
              </p:nvSpPr>
              <p:spPr>
                <a:xfrm>
                  <a:off x="2909160" y="2990160"/>
                  <a:ext cx="875880" cy="875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6231"/>
                    </a:gs>
                    <a:gs pos="100000">
                      <a:srgbClr val="ffcc66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0" name=""/>
                <p:cNvSpPr/>
                <p:nvPr/>
              </p:nvSpPr>
              <p:spPr>
                <a:xfrm>
                  <a:off x="2953080" y="3034080"/>
                  <a:ext cx="788400" cy="788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55e2f"/>
                    </a:gs>
                    <a:gs pos="100000">
                      <a:srgbClr val="ffcc66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1" name=""/>
              <p:cNvSpPr/>
              <p:nvPr/>
            </p:nvSpPr>
            <p:spPr>
              <a:xfrm>
                <a:off x="3158280" y="3214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사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5076720" y="2924280"/>
              <a:ext cx="1079640" cy="1008000"/>
              <a:chOff x="5076720" y="2924280"/>
              <a:chExt cx="1079640" cy="1008000"/>
            </a:xfrm>
          </p:grpSpPr>
          <p:sp>
            <p:nvSpPr>
              <p:cNvPr id="1143" name=""/>
              <p:cNvSpPr/>
              <p:nvPr/>
            </p:nvSpPr>
            <p:spPr>
              <a:xfrm>
                <a:off x="5076720" y="2924280"/>
                <a:ext cx="1079640" cy="10080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50000">
                    <a:srgbClr val="51afb9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173920" y="2989800"/>
                <a:ext cx="939240" cy="876600"/>
              </a:xfrm>
              <a:prstGeom prst="ellipse">
                <a:avLst/>
              </a:prstGeom>
              <a:gradFill rotWithShape="0">
                <a:gsLst>
                  <a:gs pos="0">
                    <a:srgbClr val="2b5e63"/>
                  </a:gs>
                  <a:gs pos="50000">
                    <a:srgbClr val="51afb9"/>
                  </a:gs>
                  <a:gs pos="100000">
                    <a:srgbClr val="2b5e6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45" name=""/>
              <p:cNvGrpSpPr/>
              <p:nvPr/>
            </p:nvGrpSpPr>
            <p:grpSpPr>
              <a:xfrm>
                <a:off x="5076720" y="2924280"/>
                <a:ext cx="1079640" cy="1008000"/>
                <a:chOff x="5076720" y="2924280"/>
                <a:chExt cx="1079640" cy="100800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076720" y="2924280"/>
                  <a:ext cx="1079640" cy="1008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1afb9"/>
                    </a:gs>
                    <a:gs pos="100000">
                      <a:srgbClr val="8ac8cf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146920" y="2989800"/>
                  <a:ext cx="938880" cy="876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275459"/>
                    </a:gs>
                    <a:gs pos="100000">
                      <a:srgbClr val="51afb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  <p:sp>
            <p:nvSpPr>
              <p:cNvPr id="1148" name=""/>
              <p:cNvSpPr/>
              <p:nvPr/>
            </p:nvSpPr>
            <p:spPr>
              <a:xfrm>
                <a:off x="5230800" y="3068280"/>
                <a:ext cx="792720" cy="719640"/>
              </a:xfrm>
              <a:prstGeom prst="ellipse">
                <a:avLst/>
              </a:prstGeom>
              <a:gradFill rotWithShape="0">
                <a:gsLst>
                  <a:gs pos="0">
                    <a:srgbClr val="255055"/>
                  </a:gs>
                  <a:gs pos="100000">
                    <a:srgbClr val="51afb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428440" y="32292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니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grpSp>
          <p:nvGrpSpPr>
            <p:cNvPr id="1150" name=""/>
            <p:cNvGrpSpPr/>
            <p:nvPr/>
          </p:nvGrpSpPr>
          <p:grpSpPr>
            <a:xfrm>
              <a:off x="6227640" y="2782800"/>
              <a:ext cx="1043280" cy="1077840"/>
              <a:chOff x="6227640" y="2782800"/>
              <a:chExt cx="1043280" cy="1077840"/>
            </a:xfrm>
          </p:grpSpPr>
          <p:sp>
            <p:nvSpPr>
              <p:cNvPr id="1151" name=""/>
              <p:cNvSpPr/>
              <p:nvPr/>
            </p:nvSpPr>
            <p:spPr>
              <a:xfrm>
                <a:off x="6329880" y="27828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ko-KR" sz="2000" spc="-1" strike="noStrike">
                    <a:solidFill>
                      <a:srgbClr val="ffffff"/>
                    </a:solidFill>
                    <a:latin typeface="Arial"/>
                    <a:ea typeface="휴먼모음T"/>
                  </a:rPr>
                  <a:t>다</a:t>
                </a:r>
                <a:endParaRPr b="0" lang="en-US" sz="20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grpSp>
            <p:nvGrpSpPr>
              <p:cNvPr id="1152" name=""/>
              <p:cNvGrpSpPr/>
              <p:nvPr/>
            </p:nvGrpSpPr>
            <p:grpSpPr>
              <a:xfrm>
                <a:off x="6227640" y="2923560"/>
                <a:ext cx="1043280" cy="937080"/>
                <a:chOff x="6227640" y="2923560"/>
                <a:chExt cx="1043280" cy="937080"/>
              </a:xfrm>
            </p:grpSpPr>
            <p:sp>
              <p:nvSpPr>
                <p:cNvPr id="1153" name=""/>
                <p:cNvSpPr/>
                <p:nvPr/>
              </p:nvSpPr>
              <p:spPr>
                <a:xfrm>
                  <a:off x="6227640" y="2923560"/>
                  <a:ext cx="1043280" cy="937080"/>
                </a:xfrm>
                <a:prstGeom prst="ellipse">
                  <a:avLst/>
                </a:prstGeom>
                <a:solidFill>
                  <a:srgbClr val="ff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4" name=""/>
                <p:cNvSpPr/>
                <p:nvPr/>
              </p:nvSpPr>
              <p:spPr>
                <a:xfrm>
                  <a:off x="6295320" y="2984400"/>
                  <a:ext cx="90756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7b4a00"/>
                    </a:gs>
                    <a:gs pos="100000">
                      <a:srgbClr val="ff99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  <p:sp>
              <p:nvSpPr>
                <p:cNvPr id="1155" name=""/>
                <p:cNvSpPr/>
                <p:nvPr/>
              </p:nvSpPr>
              <p:spPr>
                <a:xfrm>
                  <a:off x="6574680" y="3185280"/>
                  <a:ext cx="3330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000" spc="-1" strike="noStrike">
                      <a:solidFill>
                        <a:srgbClr val="ffffff"/>
                      </a:solidFill>
                      <a:latin typeface="Arial"/>
                      <a:ea typeface="휴먼모음T"/>
                    </a:rPr>
                    <a:t>다</a:t>
                  </a:r>
                  <a:endParaRPr b="0" lang="en-US" sz="2000" spc="-1" strike="noStrike">
                    <a:solidFill>
                      <a:srgbClr val="000000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ransition>
    <p:split dir="in" orient="vert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08:50:38Z</dcterms:created>
  <dc:creator>Windows XP Professional</dc:creator>
  <dc:description/>
  <cp:keywords/>
  <dc:language>en-US</dc:language>
  <cp:lastModifiedBy>SEC</cp:lastModifiedBy>
  <dcterms:modified xsi:type="dcterms:W3CDTF">2008-04-22T06:15:39Z</dcterms:modified>
  <cp:revision>227</cp:revision>
  <dc:subject/>
  <dc:title>Click to add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1367971033</vt:lpwstr>
  </property>
</Properties>
</file>